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embeddings/oleObject1.docx" ContentType="application/vnd.openxmlformats-officedocument.wordprocessingml.documen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EEC8-D4CE-4E04-ADC3-F6F9B25B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04D-36CF-4D60-8564-7E6ED636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1BD-7325-49F9-80D2-0D9360EC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D14-827E-48E8-8391-A857059B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8ED16-B219-43AF-A0D3-E04333C6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A653-7E83-4910-9312-03568C8C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AA049-8131-46A6-9B53-4D3FFB58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35E0-3D6B-4810-A6B0-978DEE6E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D722-7D89-4FA6-9D70-D1208421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5D5F-5AD7-45D9-8060-EA5875AB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068C-F423-45DA-9783-ACB43943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71B-D543-4733-9701-CBCAB38F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B317-15AF-45A5-9587-2D634E4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AEBA-9EB2-49F2-84DD-6862C0FF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9A4C-0450-4AEE-B683-79F8368C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482E-6848-436B-9D6F-65F0752C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4BE0-BF25-4593-95FB-21E91909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876-9177-48CE-81BE-8D406951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5DE-43B8-46A7-ABF6-818057E7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9B57-8C28-4FD5-810C-609CE174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B709-C571-4F2D-9C58-99EE52CE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AED-6294-410E-A800-22A1459A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9F4-5B9C-4813-B604-968875A5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FFB-6514-4E3D-AB37-59BC220A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FE18-6E5B-41ED-ABE2-D23DA7BADD09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248520" y="0"/>
          <a:ext cx="2895480" cy="550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48520" y="0"/>
                    <a:ext cx="28954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A7DA-8AB6-41DF-A937-2C705EC0482A}" type="slidenum">
              <a:rPr b="0" lang="en-GB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03640" y="0"/>
          <a:ext cx="2895480" cy="550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0"/>
                    <a:ext cx="289548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0.xml"/><Relationship Id="rId3" Type="http://schemas.openxmlformats.org/officeDocument/2006/relationships/slide" Target="slide2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CASPER: Canale di Servizio Pubblico Emilia-Romagna</a:t>
            </a:r>
            <a:br>
              <a:rPr sz="3600"/>
            </a:b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la strada verso Lepida-TV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14400" y="36576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rof. Gianluca Mazzin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Gruppo di Indirizzo per le Telecomunicazion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niversità degli Studi di Ferra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Regione Emilia-Romagn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6F74-1D46-48F7-9EAD-544C42D441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9560" y="228240"/>
            <a:ext cx="767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risulta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etamodello delle modalità di interscambio da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etamodello di descrizione dei serviz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pplicazioni MH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efinizione di processi di erogazione di servizi di T-Governmen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nteroperabilità tra più Centri Serviz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ati e statistiche di serviz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viluppo e condivisione di conoscenze/approcci/metodologie/linee gui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romozione del digitale terrest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135F-F7C7-41B2-A626-995F037E615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708600" y="6027840"/>
            <a:ext cx="671760" cy="4824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03280" y="1494000"/>
            <a:ext cx="4529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Arial"/>
              </a:rPr>
              <a:t>Sanità in TV - Cartella clinica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3857760" y="6211800"/>
            <a:ext cx="252360" cy="1177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22360" y="1763640"/>
            <a:ext cx="4697280" cy="208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Arial"/>
              </a:rPr>
              <a:t>Inserisci Cognome e Codice Nosologico </a:t>
            </a:r>
            <a:r>
              <a:rPr b="0" lang="it-IT" sz="1800" spc="-1" strike="noStrike">
                <a:solidFill>
                  <a:srgbClr val="40458c"/>
                </a:solidFill>
                <a:latin typeface="Arial"/>
              </a:rPr>
              <a:t>nei campi</a:t>
            </a:r>
            <a:r>
              <a:rPr b="0" lang="it-IT" sz="1600" spc="-1" strike="noStrike">
                <a:solidFill>
                  <a:srgbClr val="40458c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Arial"/>
              </a:rPr>
              <a:t>Entrambi servono per garantire l’univocità e la Sicurezza della rispost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Arial"/>
              </a:rPr>
              <a:t>Usa le frecce del telecomando per muoverti sulla  </a:t>
            </a:r>
            <a:r>
              <a:rPr b="0" lang="it-IT" sz="1800" spc="-1" strike="noStrike">
                <a:solidFill>
                  <a:srgbClr val="40458c"/>
                </a:solidFill>
                <a:latin typeface="Arial"/>
              </a:rPr>
              <a:t>tastiera a video</a:t>
            </a:r>
            <a:r>
              <a:rPr b="0" lang="it-IT" sz="1600" spc="-1" strike="noStrike">
                <a:solidFill>
                  <a:srgbClr val="40458c"/>
                </a:solidFill>
                <a:latin typeface="Arial"/>
              </a:rPr>
              <a:t> e premi OK. Spostarti da un campo all’altro con “Scegli campo”. Alla fine premi GIALL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4440" y="4300560"/>
            <a:ext cx="188280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Cognom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4440" y="4897440"/>
            <a:ext cx="1882800" cy="34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40458c"/>
                </a:solidFill>
                <a:latin typeface="Arial"/>
              </a:rPr>
              <a:t>Nosologic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4875120"/>
            <a:ext cx="24526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44600" y="4254480"/>
            <a:ext cx="24526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1" name="" descr="Rectangle: Click to edit Master text styles&#13;&#10;Second level&#13;&#10;Third level&#13;&#10;Fourth level&#13;&#10;Fifth level"/>
          <p:cNvPicPr/>
          <p:nvPr/>
        </p:nvPicPr>
        <p:blipFill>
          <a:blip r:embed="rId4"/>
          <a:stretch/>
        </p:blipFill>
        <p:spPr>
          <a:xfrm>
            <a:off x="1733400" y="6051600"/>
            <a:ext cx="709920" cy="395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Rectangle: Click to edit Master text styles&#13;&#10;Second level&#13;&#10;Third level&#13;&#10;Fourth level&#13;&#10;Fifth level"/>
          <p:cNvPicPr/>
          <p:nvPr/>
        </p:nvPicPr>
        <p:blipFill>
          <a:blip r:embed="rId5"/>
          <a:stretch/>
        </p:blipFill>
        <p:spPr>
          <a:xfrm>
            <a:off x="5872320" y="6054840"/>
            <a:ext cx="609480" cy="4712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6"/>
          <a:stretch/>
        </p:blipFill>
        <p:spPr>
          <a:xfrm>
            <a:off x="5416560" y="3586320"/>
            <a:ext cx="3362400" cy="1446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524640" y="3781440"/>
            <a:ext cx="223920" cy="25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94320" y="3649680"/>
            <a:ext cx="2667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79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45240" y="367020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9000" y="367020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5400" y="367020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26160" y="3670200"/>
            <a:ext cx="3636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926400" y="367020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92800" y="367020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18240" y="367020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32400" y="3927600"/>
            <a:ext cx="3618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45240" y="3927600"/>
            <a:ext cx="3618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39000" y="3927600"/>
            <a:ext cx="3618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05400" y="3927600"/>
            <a:ext cx="36216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6160" y="3927600"/>
            <a:ext cx="3636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13800" y="3670200"/>
            <a:ext cx="36324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80200" y="367020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62800" y="3670200"/>
            <a:ext cx="3636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19800" y="4457880"/>
            <a:ext cx="57636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Canc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13800" y="3927600"/>
            <a:ext cx="36324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80200" y="3927600"/>
            <a:ext cx="36216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62800" y="3927600"/>
            <a:ext cx="3636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13800" y="4189320"/>
            <a:ext cx="36324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80200" y="418932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62800" y="4189320"/>
            <a:ext cx="3636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80200" y="450216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16560" y="4189320"/>
            <a:ext cx="3636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45240" y="418932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39000" y="418932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05400" y="418932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626160" y="4189320"/>
            <a:ext cx="3636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26400" y="4189320"/>
            <a:ext cx="3618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92800" y="418932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18240" y="4189320"/>
            <a:ext cx="36216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45000" y="4457880"/>
            <a:ext cx="36216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745240" y="4457880"/>
            <a:ext cx="36180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26400" y="3927600"/>
            <a:ext cx="36180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92800" y="3927600"/>
            <a:ext cx="36216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518240" y="3927600"/>
            <a:ext cx="362160" cy="20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54840" y="4457880"/>
            <a:ext cx="62208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40458c"/>
                </a:solidFill>
                <a:latin typeface="Arial"/>
              </a:rPr>
              <a:t>Spazio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51760" y="4457880"/>
            <a:ext cx="36360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64320" y="4457880"/>
            <a:ext cx="362160" cy="207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81800" y="4751280"/>
            <a:ext cx="1049400" cy="208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40458c"/>
                </a:solidFill>
                <a:latin typeface="Arial"/>
              </a:rPr>
              <a:t>Scegli camp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7275600" y="4422600"/>
            <a:ext cx="127080" cy="2761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7677360" y="4421880"/>
            <a:ext cx="114480" cy="277560"/>
          </a:xfrm>
          <a:prstGeom prst="triangle">
            <a:avLst>
              <a:gd name="adj" fmla="val 53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21440" y="4548240"/>
            <a:ext cx="176400" cy="84240"/>
          </a:xfrm>
          <a:custGeom>
            <a:avLst/>
            <a:gdLst>
              <a:gd name="textAreaLeft" fmla="*/ 0 w 176400"/>
              <a:gd name="textAreaRight" fmla="*/ 176760 w 17640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692760" y="4554360"/>
            <a:ext cx="177840" cy="82800"/>
          </a:xfrm>
          <a:custGeom>
            <a:avLst/>
            <a:gdLst>
              <a:gd name="textAreaLeft" fmla="*/ 0 w 177840"/>
              <a:gd name="textAreaRight" fmla="*/ 177840 w 17784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" descr="Rectangle: Click to edit Master text styles&#13;&#10;Second level&#13;&#10;Third level&#13;&#10;Fourth level&#13;&#10;Fifth level"/>
          <p:cNvPicPr/>
          <p:nvPr/>
        </p:nvPicPr>
        <p:blipFill>
          <a:blip r:embed="rId7"/>
          <a:stretch/>
        </p:blipFill>
        <p:spPr>
          <a:xfrm>
            <a:off x="5508720" y="476280"/>
            <a:ext cx="3095640" cy="230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B0A-7C05-4D95-887C-17F19139ECF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" action="ppaction://hlinkshowjump?jump=lastslide"/>
          </p:cNvPr>
          <p:cNvSpPr/>
          <p:nvPr/>
        </p:nvSpPr>
        <p:spPr>
          <a:xfrm>
            <a:off x="7543800" y="5335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533520" y="5791320"/>
            <a:ext cx="2057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6769080" y="5613480"/>
            <a:ext cx="1523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2806560" y="6184800"/>
            <a:ext cx="360360" cy="32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>
            <a:hlinkClick r:id="rId4" action="ppaction://hlinksldjump"/>
          </p:cNvPr>
          <p:cNvSpPr/>
          <p:nvPr/>
        </p:nvSpPr>
        <p:spPr>
          <a:xfrm>
            <a:off x="4737240" y="6184800"/>
            <a:ext cx="360360" cy="32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AC4-8C1C-49C1-A756-10909F8708C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tegrazione con Lepi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067280" y="3416400"/>
            <a:ext cx="4946400" cy="34416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4392720" cy="30560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127480" y="1209600"/>
            <a:ext cx="340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pida-Rete: veicolo di integrazione per la PA ma anche per i progetti della P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4221000"/>
            <a:ext cx="340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pida-TV: veicolo di integrazione con il cittadino, utilizzando Lepida-Rete per il trasporto e la fruizione di dati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A5D-503F-4E1F-A9C0-E98FBF3E63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T-Government: obiettivi e approcci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Piano Telematico Regionale 2004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i="1" lang="it-IT" sz="2400" spc="-1" strike="noStrike">
                <a:solidFill>
                  <a:srgbClr val="40458c"/>
                </a:solidFill>
                <a:latin typeface="Tahoma"/>
              </a:rPr>
              <a:t>erogare servizi al cittadino con un canale complementare e non sostitutivo; accrescere nuove funzioni: education, learning,…; convergenza dei mezzi; direzioni: servizi informativi, servizi interattivi, prodotti audiovisiv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 servizi inseriti sono selezionati sulla base della frequenza di uso, della portabilità, dell’integrabilità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Diretto verso chi non ha accesso ad 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Meccanismo per aumentare la fruibilità dei contenu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istema di verifica e restyling di servizi con limitata immediatezza di uso, considerando i vincoli tecnologici imposti dalla DT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A5CC-4DFC-43BD-B1B4-529671F6C5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44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proget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arola chiave del progetto è l’integrazion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ra diversi enti locali, che insistono sullo stesso territorio (Regione, Province e Comuni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ra diversi servizi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Fra diversi centri servizio e broadcaste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Il progetto è diviso in due ambiti, con utenti e territori di riferimento diversi: VISITARE L’EMILIA-ROMAGNA, con utenti target su tutto il territorio nazionale; VIVERE L’EMILIA-ROMAGNA, con utenti residenti su tutto il territorio nazionale e specializzazione tematica su aree locali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Classificato primo nel </a:t>
            </a:r>
            <a:r>
              <a:rPr b="1" lang="it-IT" sz="2400" spc="-1" strike="noStrike">
                <a:solidFill>
                  <a:srgbClr val="40458c"/>
                </a:solidFill>
                <a:latin typeface="Tahoma"/>
              </a:rPr>
              <a:t>bando CNIPA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con 530K€ di cofinanziamento, impegno di circa 350K€ della RER, durata 10 mes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62ED-268D-4E43-9281-2C6F76323E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644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art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Enti locali: </a:t>
            </a:r>
            <a:r>
              <a:rPr b="1" lang="it-IT" sz="3200" spc="-1" strike="noStrike">
                <a:solidFill>
                  <a:srgbClr val="40458c"/>
                </a:solidFill>
                <a:latin typeface="Tahoma"/>
              </a:rPr>
              <a:t>Regione Emilia-Romagna</a:t>
            </a: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, Comune di Bologna; Comune di Modena; Provincia di Bologna; Provincia di Ferrara; Provincia di Parma (+ 6 enti riusatori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Centri Servizio: E.D.A., Telespaz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Broadcaster: RAI, Italia7Gold, Telesanter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40458c"/>
                </a:solidFill>
                <a:latin typeface="Tahoma"/>
              </a:rPr>
              <a:t>Servizi specifici: CUP2000; CINEC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FFA-49BA-4C24-99D6-A927444F91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0928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 servizi offer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SITARE l’Emilia-Romagn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l Cartellone, informazioni sintetiche su tutti gli eventi culturali in Emilia-Romag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Previsioni meteo anche specialistiche (precipitazioni, nuvolosità, mare, ven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formazioni aggiornate sulla percorribilità delle strade e lavori in cors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VIVERE l’Emilia-Romagn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formazioni che descrivono le strutture ed i servizi scolastici e le relative modalità di access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Guida on-line al non profit, una banca dati (qualitativi e quantitativi) sull'associazionismo e sul volontariato,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formazioni sui servizi erogati dalle Associazioni di Volontariat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formanziani, una banca dati completa sulle prestazioni e servizi offerti agli anziani da enti pubblici, privati e non-profit ed è particolarmente adatto alla piattaforma Digitale Terrestre poiché si rivolge ad un target che generalmente non ha Internet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Verifica on-line dello stato di evasione della propria cartella clinica,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Informazioni di primo livello relative a servizi e prestazioni sanitarie e socio-sanitarie erogate nella Regione Emilia-Romagn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C72-824C-4B7C-B1E6-411966D3F5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2 filie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23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1644480" y="1584360"/>
            <a:ext cx="5783400" cy="45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CE3-7B76-4A9A-9154-08C18267E5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4 tecnologi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ruizione di servizi già presenti in Internet con interfaccia nativa DT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avigazione su siti web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generici della PA adattati automaticamente per essere fruibili su DTT con meccanismi di mutuati dalla multicanalit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rogazione di contenuti audio/video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4/7 nella filiera vivere l’Emilia-Romagna: juke-box di palinsento e digitalizzazione beni multimedial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eccanismi di autenticazion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basati su vari paradigmi: logine password, CE, C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F3F-E580-42FC-B053-8834DD39BD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8084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’utenza target del proget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Diversi servizi hanno target divers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Turisti e pubblico generalista per i servizi di “Visitare l’Emilia-Romagna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Per “Vivere in Emilia-Romagn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Anzian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Utenti dei servizi social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Famiglie con bambini in età scol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Pubblico generalis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monitoraggio dell’uso dei servizi viene effettuato tramite rilevazione delle navigazioni effettuate, sondaggi on-air e telefonici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58c"/>
                </a:solidFill>
                <a:latin typeface="Tahoma"/>
              </a:rPr>
              <a:t>Il campione monitorato è di circa 700 utent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BF56-2E6E-45D8-862A-2DD63C9668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Sperimentazione DT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Integrazion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audio/video e supertelevideo, non solo dati e non solo video; Juke-box audio/video programmabile da casa dall’utente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Usabilità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programmazione dei tasti del telecomando in base al tipo di utente [profilo]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ccessibilità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programmazione della navigazione in base al tipo si servizi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Monitoraggio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analisi dell’utilità e penetrazione del sistem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Convergenza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contenuti diversi verso una sola interfaccia vincolante; dal web al televisore, per tornare al web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Tecnologi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canali di ritorn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Autenticazione e Sicurezza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transazioni sicu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40458c"/>
                </a:solidFill>
                <a:latin typeface="Tahoma"/>
              </a:rPr>
              <a:t>Pluralità tecnologiche</a:t>
            </a:r>
            <a:r>
              <a:rPr b="0" lang="it-IT" sz="2000" spc="-1" strike="noStrike">
                <a:solidFill>
                  <a:srgbClr val="40458c"/>
                </a:solidFill>
                <a:latin typeface="Tahoma"/>
              </a:rPr>
              <a:t>: presenza di più centri servizi [3] e più broadcaster [3]; meccanismi cooperativi di interfaccia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BE9-6519-407F-B3A0-B2D443B9B9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anluca Mazzini</cp:lastModifiedBy>
  <dcterms:modified xsi:type="dcterms:W3CDTF">2005-06-09T07:37:23Z</dcterms:modified>
  <cp:revision>51</cp:revision>
  <dc:subject/>
  <dc:title>PowerPoint Presentation</dc:title>
</cp:coreProperties>
</file>