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F79-373A-4901-B114-778E847D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D9B-881E-474E-8DE5-FE55E3B0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3FC-3958-44DA-8F19-8BCCE372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748-5C6D-4DDC-A26C-ECBB572A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7A2E-B22C-4A2E-9D35-5292EA9F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1D6C-2DBA-4C0B-9971-B2414DF6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2C22-352A-4E7D-A650-C87C3AD4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929E-BEE6-4EBA-B0A2-F9D8A39B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2362-B0A4-4CF4-A04B-0A0A9DF8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5AE1-B460-4CEC-A95B-62488EFF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3995-1F33-4895-92A8-255A6948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075-0F27-4875-8671-09430E69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D689-70C8-44A5-8E33-80BA91E5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19F4-1AAD-47B9-AA44-1F59BB6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80A3-F17A-4A21-8437-F86EF3BF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A358-19AB-4845-B444-30891EE8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659B-3432-4C8A-9C72-419F8B66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267-BABB-41D8-849D-A1E7D30C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697-7C83-4632-843E-9DDB94DC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DAF-152C-4FCE-AA50-214AE1AA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D30-9F09-420F-9604-CC78661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D99-B8C8-40E2-891D-B45412BC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0CA-B4F2-465C-8A61-572EE1F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FFB-BC01-4B7E-953D-BF2AF575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2781-35E0-48A2-856A-A7CABDC5F93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C62F-E9CF-46E1-BC70-2B58E8EEA5E7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3333ff"/>
                </a:solidFill>
                <a:latin typeface="Tahoma"/>
              </a:rPr>
              <a:t>Il Progetto DI’ LUCC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lo sviluppo dei servizi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-governmen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iattaforma digitale terrest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iccardo Del Do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000000"/>
                </a:solidFill>
                <a:latin typeface="Tahoma"/>
              </a:rPr>
              <a:t>Responsabile Progetto Dì Lucc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ff"/>
                </a:solidFill>
                <a:latin typeface="Tahoma"/>
              </a:rPr>
              <a:t>Forum Europeo Digitale terrestre - Lucca, 10 giugno 200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3B5FC8F6" descr=""/>
          <p:cNvPicPr/>
          <p:nvPr/>
        </p:nvPicPr>
        <p:blipFill>
          <a:blip r:embed="rId1"/>
          <a:stretch/>
        </p:blipFill>
        <p:spPr>
          <a:xfrm>
            <a:off x="3809880" y="2971800"/>
            <a:ext cx="15242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Le caratteristiche del MU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43400" y="2017800"/>
            <a:ext cx="46116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MUX illumina la provincia di Lucca, Pisa e Livorno attraverso i siti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Monte Pianell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Comune di Capannori (LU), quota s.l.m 183 metr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Pietra Pertus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Comune di Capannori (LU), quota s.l.m. 951 me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Monte Serra Bass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Comune di Calci (PI), quota s.l.m. 860 me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multiplex di 22 Mb/s prevede 4 canali audio/video da 4 Mb/s e 3  canali per singole applicazioni MHP da 2Mb/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4Mb/s + 2 Mb/s dedicati al canale civic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MUX copre 1.088 kmq e circa 540.000 abita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9290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958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623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Decoder MHP sul territor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629400" y="16002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038480" y="1981080"/>
            <a:ext cx="2381400" cy="819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3123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el Comune di Lucca sono presenti oltre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10.000 decoder interattiv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29,2% delle famiglie sono in possesso di un STB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Comune di Lucca, attraverso HSEB, ha distribuito gratuitamente oltre 300 decoder, grazie ai contributi ministerial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ltre 800 decoder distribuiti da HSEB, con i contributi ministeriali. La consegna è stata effettuata ad personam con test operativo, informazioni e dettagli sulla tecnica digitale terrest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1.100 utenti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he hanno ricevuto il STB,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anno sottoscritto formalmen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’adesione alla sperimentazion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isponibilità a test tecnico-operativi per analisi di qualità, prove di usabilità e sul gradimento dell’offerta digita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Progetto DI’ LUCCA: l’architettu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200720" cy="3961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29000" y="2743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Attività e tempi del Progett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2057400"/>
            <a:ext cx="819936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Settembre 2005</a:t>
            </a: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ogettaz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infrastrutture e servizi applicativi, set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entro servizi e infrastruttura broadcas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Ottobre 2005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vilupp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applicazioni, test e validazione in laboratorio,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ogettazione degli strumenti di monitoragg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Novembre 2005</a:t>
            </a: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vvi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ed esercizio del servizio e inizio monitoragg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Marzo 2006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isultat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el monitoragg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Giugno 2005-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vent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e iniziative dirette ai cittadini per la promozione d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0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ahoma"/>
              </a:rPr>
              <a:t>Marzo 2006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z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Monitoraggio Progetto DI’ LUC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240" y="2276280"/>
            <a:ext cx="735012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monitoraggio sarà effettuato a partire dal 5° mese e si protrarrà fino al termine del proget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monitoraggio sarà condotto attraverso due fasi distin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)  Interviste periodiche a 500 soggetti scelti a campione tra gli utenti beneficiari (1100) e tra quanti hanno fornito la propria disponibilità, tra i 2.100 STB acquistati attraverso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Canale d,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er valutare la percezione soggettiva della qualità dei servizi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)  Attività di monitoraggio automatico basata sull’analisi dei log dell’applicazi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Obiettivi del Progetto DI’ LUC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) Fornitura di servizi di e-government sulla piattaforma digitale terrest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) Verifica dell’efficacia delle soluzioni e dei servizi offert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) Verifica tecnologica dell’architettura in progetto, della flessibilità del sistema e del modello organizzativo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) Induzione su scala locale di competenze tecnologiche per consolidare la possibilità di sviluppo di soluzioni e applicazioni sulla piattaforma DT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  <a:ea typeface="Times New Roman"/>
              </a:rPr>
              <a:t>Le tappe del progetto DI’ LUC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23 maggio 2003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Iniziativa di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une di Lucc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ittàdigital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il progetto dell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ity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25 giugno 2003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ome Shopping Europe Broadcastin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ccende nell’area di Lucca, Pisa e Livorno il MUX per il DVB-t, avendo ricevuto la prima abilitazione alle trasmissioni in tecnica digitale terrestre nell’ambito region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12 marzo 2004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ittàdigital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sigla con il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une di Lucc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l’Accordo di servizio per l’avvio della sperimentazione pubblica come da articolo 41, comma 7, Legge 3 del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5671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  <a:ea typeface="Times New Roman"/>
              </a:rPr>
              <a:t>DI’ LUCCA citytelevision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alinsesto orientato alle news, approfondimenti giornalistici, cultura, economia, spettacolo, promozione del territorio e realtà loc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e informazioni provenienti dalla P.A., Enti ed Associazioni sono elaborate d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ttàdigitali,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gestite e predisposte mediante un server centra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el format video, lo sticker verticale contiene informazioni e notizie dal Comune di Lucca, l’orizzontale è dedicato alle notizie di interesse ed utilità pubbl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671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foto%20Dì%20Lucca%202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02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54864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ticker orizzont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666880" y="5029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486400"/>
            <a:ext cx="1143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ticker verti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0060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  <a:ea typeface="Times New Roman"/>
              </a:rPr>
              <a:t>ITINERA: al servizio dei turi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46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ct val="9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 collaborazione con Comune di Lucca ed il Consorzio Itinera è nato un format dedicato al turismo, una guida giornaliera con  eventi, manifestazioni ed iniziative  presenti nell’area di Luc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532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5320" indent="-175320">
              <a:lnSpc>
                <a:spcPct val="9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l format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tinerand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, della durata di 30’, viene trasmesso a partire dalle 7.30 e diffuso in italiano ed inglese. La programmazione pomeridiana è prevista dalle ore 18.3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532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5320" indent="-175320">
              <a:lnSpc>
                <a:spcPct val="9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no stati distribuiti STB ad hotel, alberghi ed alle altre strutture del territorio che possono così ricevere il format attraverso la citytelevisio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5671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810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  <a:ea typeface="Times New Roman"/>
              </a:rPr>
              <a:t>Il progetto DI’ LUC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8280" indent="-278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l risposta al bando CNIPA, il Comune di Lucca ha proposto un progetto, con il primo obiettivo di creare una piattaforma digitale su cui poter rendere utilizzabili i servizi erogati con la rete we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8280" indent="-278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 l’inizio dell’interattività i cittadini potranno utilizzare la televisione di casa per consultare banche dati ed avere informazioni s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une e Cit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iovani e Scu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  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mbiente e Territo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   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ittadini e Impre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8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5671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  <a:ea typeface="Times New Roman"/>
              </a:rPr>
              <a:t>Il progetto DI’ LUC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05160" y="2060280"/>
            <a:ext cx="38098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l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etto DI’ LUCC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perimenta l’erogazione di servizi di natura informativa ricevibili attraverso il STB con funzioni MH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progetto mette a fuoco la possibilità di attingere in maniera automatica alla base di conoscenza centralizzata fonte dei servizi informativi erogati dal Comune (URP, web, call cen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er il progetto sono stati selezionati sottoinsiemi significativi rispetto l’utenza potenzia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5671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ito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64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I partner del progett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4220640"/>
            <a:ext cx="74170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Cittàdigitali</a:t>
            </a:r>
            <a:r>
              <a:rPr b="0" lang="it-IT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è editore televisivo e società fornitrice di contenuti televisivi nel sistema digitale terrestre. Cittàdigitali intende promuovere ed incentivare lo sviluppo della radiodiffusione televisiva in tecnica DVB-t e nel 2003 ha trasmesso alla Fondazione Ugo Bordoni formale manifestazione di interesse per la sperimentazio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9290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logo cittadigitali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2057400" cy="1655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958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23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I partner del progett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3573360"/>
            <a:ext cx="7777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CSP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novazione nelle ICT è un Centro di eccellenza per la ricerca, sviluppo e sperimentazione di tecnologie avanzate informatiche e telematich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CSP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è riconosciuto come Laboratorio di Ricerca dal M.I.U.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a attivato il </a:t>
            </a: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DTT-Lab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un proprio laboratorio di ricerca nell’ambito DVB-t, in grado di replicare e gestire in laboratorio l’intera catena di distribuzione di un sistema DTT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9290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58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623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csp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26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ff"/>
                </a:solidFill>
                <a:latin typeface="Tahoma"/>
              </a:rPr>
              <a:t>I partner del progett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3213000"/>
            <a:ext cx="7705800" cy="29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Home Shopping Europe Broadcasting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proprietaria degli impianti di trasmissione, gestisce attraverso 280 impianti l’irradiazione dei programmi televisivi nazionali d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anale d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raggiungendo l’82% delle famiglie italian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.S.E.B.  il 10 gennaio 2003 ha ottenuto le necessarie autorizzazioni per la sperimentazione della tecnologia DVB-t ed ha avuto accesso ai contributi previsti dal D.M. 24 dicembre 2003 del Ministero delle Comunicazioni di concerto con il Ministero dell’economia per l’acquisto dei STB interattivi, diffusi sul nell’area lucche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9290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958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623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hse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230364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28:29Z</dcterms:created>
  <dc:creator>SBarbini</dc:creator>
  <dc:description/>
  <dc:language>en-US</dc:language>
  <cp:lastModifiedBy>COMUNE DI LUCCA</cp:lastModifiedBy>
  <dcterms:modified xsi:type="dcterms:W3CDTF">2005-06-09T14:26:03Z</dcterms:modified>
  <cp:revision>58</cp:revision>
  <dc:subject/>
  <dc:title>DI’ LUCCA citytelevision </dc:title>
</cp:coreProperties>
</file>