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40A3-DAF4-48DA-A3FA-7B5FCC2F7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3236-4FD2-48F2-9A60-CB8C8C9C2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9154-06B0-4841-841E-66D151BE0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0050-0975-4ABC-A44E-6CE1A56DF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878AF-D7E0-4D12-891A-4B842943F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41C6-B447-4479-B0F8-295CD41E1A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F8E53-A8EA-4454-AC03-BD3E04E2D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261A1-0C01-440E-8D28-900A20106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D355-165E-4B13-8B4F-03CE949EF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6704-888C-470F-B030-AB0E3570F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C9D5A-E851-432B-9F48-CC142F9A2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D562-0645-494F-B369-43D629211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521000"/>
            <a:ext cx="8458200" cy="255564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nipa.it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1591920"/>
            <a:ext cx="8640720" cy="24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Verdana"/>
              </a:rPr>
              <a:t>Il Progetto t-Government</a:t>
            </a:r>
            <a:br>
              <a:rPr sz="4400"/>
            </a:br>
            <a:br>
              <a:rPr sz="2400"/>
            </a:br>
            <a:r>
              <a:rPr b="0" lang="it-IT" sz="5400" spc="-1" strike="noStrike">
                <a:solidFill>
                  <a:srgbClr val="cbcbcb"/>
                </a:solidFill>
                <a:latin typeface="Verdana"/>
              </a:rPr>
              <a:t>T-CiTel 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879640" y="4868640"/>
            <a:ext cx="3888000" cy="17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Resp. E-Gover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ott. Franco Che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omune di Pi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.chesi@comune.pisa.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971280" cy="1187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CNIPA:Centro Nazionale per l'Informatica nella Pubblica Amministrazio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297000"/>
            <a:ext cx="30193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Progetto di E-Goverment CiT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980720"/>
            <a:ext cx="7237440" cy="43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Cofinanziato nell’ambi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del 1° avviso del M.I.T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31 Enti partecipant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7 Partner: Tecnologici e Scientifi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Operativo in 9 Comu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Obiettivi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a fruizione di servizi On-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a Multiutenz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La Multicanalità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l Multiacces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Il Riuso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696000" y="1844640"/>
            <a:ext cx="2158920" cy="1085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3440" y="-63360"/>
            <a:ext cx="2122560" cy="874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3080" y="7920"/>
            <a:ext cx="1619280" cy="70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3ABE9-816B-413D-B4D1-7B7B233F15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bcbcb"/>
                </a:solidFill>
                <a:latin typeface="Verdana"/>
              </a:rPr>
              <a:t>Progetto T - CiT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Scheda proget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sto 400.000 eu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finanziamento 70.000 eu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vestimento Comune di Pisa 140.000 eu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vestimento partner Regulus 40.000 eu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Acquisto 200/250 deco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iffusione del servizio su 8 Comun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4BDE6-B322-4253-8493-389DDA941E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bcbcb"/>
                </a:solidFill>
                <a:latin typeface="Verdana"/>
              </a:rPr>
              <a:t>Progetto T - CiT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896472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Emittenti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Home shopping Europe Broadcas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Telegranducato di Tosc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igitosc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Verdana"/>
              </a:rPr>
              <a:t>Altri partner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Università e C.N.R. di Pis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ediateca Regionale Toscana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A4BC9-FDA8-4535-AAA8-217D5FCA98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bcbcb"/>
                </a:solidFill>
                <a:latin typeface="Verdana"/>
              </a:rPr>
              <a:t>Progetto T - CiTe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0920" y="1980720"/>
            <a:ext cx="82818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Obiettivi: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fornire al bacino di utenza di CiTel un’ulteriore canale d’accesso per la fruizione dei servizi già oggi erogati</a:t>
            </a:r>
            <a:r>
              <a:rPr b="1" lang="it-IT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Verdana"/>
              </a:rPr>
              <a:t>Servizi offerti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informativi: informazioni istituzionali, gli eventi di maggiore rilievo …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ervizi interattivi (di e-government): Servizio S.M.S. e Registro di classe on-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3F69-12EA-45BF-8F55-84A35ED921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bcbcb"/>
                </a:solidFill>
                <a:latin typeface="Times New Roman"/>
              </a:rPr>
              <a:t>Attività di rius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44640"/>
            <a:ext cx="8389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33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00"/>
                </a:solidFill>
                <a:latin typeface="Arial"/>
              </a:rPr>
              <a:t>Bando C.N.I.P.A. sul RIUSO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2976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resentate soluzioni per 7 aree con in aggiunta anche la fruizione di alcuni servizi tramite il canale digitale terrest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12A9E-0ECA-4554-AD43-9BE06925C2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ndard</cp:lastModifiedBy>
  <dcterms:modified xsi:type="dcterms:W3CDTF">2005-06-08T17:41:12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0</vt:r8>
  </property>
  <property fmtid="{D5CDD505-2E9C-101B-9397-08002B2CF9AE}" pid="3" name="Version">
    <vt:r8>1</vt:r8>
  </property>
</Properties>
</file>