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1B8-A24D-4C1C-B6FE-F0465C87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95F4-636F-4DF2-8C5A-7460092C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E155-BA9E-4F16-BFB0-0C1EC663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1AD-28EF-4ACE-A3FC-8218141D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7922-1CA4-44B4-A7F7-C7CD8DB9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0E35-D39D-4C90-906A-0CF18618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9288-B3DC-42B8-B375-29D6E7CC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F280-311D-4063-BEA6-53EEEF9B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0275-AF63-4054-BA98-966AE770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5A28-3A44-4A35-ABE5-E94DBED8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8D60-BE93-45A8-B0F6-B221CF68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C84-A14C-4E63-8E62-3F7E0177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3E37-0701-4E13-B4CD-6F70457B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9749-0264-4B28-8AD7-62A32393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8B3F-E77B-4263-822A-D866F74F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71E3-5DDF-4F1A-9BD9-5AC3D883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C9D8F-365D-4C54-A53E-ED8787B8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B6F-61FA-4B4A-B67A-7DDECA42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F37-C3D5-4141-B3FD-13A0E6CD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E05F-D63E-414C-B8D7-FA5758E0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9E8-D056-4FC6-B6BB-1D395A2C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F302-F8FF-46DE-9285-FED2A6E4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BC83-32EB-4999-96FC-CE9E1A34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2A78-D308-4880-B8E4-CFC483D3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77DF-2FE0-4B10-84F5-D02A49E332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9CF8-2CE1-4DDD-99D4-4E802C100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8920" y="2924280"/>
            <a:ext cx="87138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zio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l Digitale Terrestre in Ita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l 2003 a ogg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12 anni di SAT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x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4920" y="1341360"/>
            <a:ext cx="8458200" cy="43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 Expo ha creato il maggiore evento internazionale in Italia in tema di telecomunicazioni televisive e satellitari destinato ad operatori e professionisti degli impianti di distribuzio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 Expo, con il supporto di Eutelsat e Eurosatellite,   ha contribuito a creare  la più grande rete di installatori specializzati nella tv via satellite d’It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tto questo sta avvenendo oggi anche per il settore DTT, a partire dalla collaborazione nata nel 2003 fra la Fondazione “Ugo Bordoni” e SAT Exp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AT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xpo 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2004 in cif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0.000 mq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di area espositiv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11°Edizion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, 1° come manifestazione internazion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12.000 operatori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provenienti da 32 pae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00 espositori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, il 20% dei quali este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0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nferenze e forum in tre gior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00 giornalisti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accreditati provenienti da tutto il m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Digitale Terrestre al SAT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po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 200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DTT (produzione e distribuzione di ricevitori, sistemi di distribuzione, fornitori di contenut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dizione della Conferenza nazionale sul Digitale Terrestre (Fondazione “Ugo Bordoni” e Ministero delle Comunicazion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DTT allo Smau (Salone dell’elettronica di consumo) di Mil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Digitale terrestre al SAT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xpo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2005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rea espositiva con Broadcasters (RAI, Mediaset, LA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tenuti interatti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duttori di Set-Top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mpianti centralizza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3a Conferenza Nazionale sul Digitale Terrestre, a cura della Fondazione “Ugo Bordoni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Workshop Europeo DTT, con la partecipazione di aziende leader nella vendita di set-top box per la televisione digit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artecipazione delegazioni di Slovenia, Croazia, Romania, Bulgaria e Turch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Arial"/>
              </a:rPr>
              <a:t>Attivita’ Operati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HDTV Expo Forum (area dedicata a contenuti e prodotti DTV e HDT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Arial"/>
              </a:rPr>
              <a:t>HD Council / HDFORUM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ssociazioni per la promozione della H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viluppo della </a:t>
            </a:r>
            <a:r>
              <a:rPr b="0" lang="it-IT" sz="2400" spc="-1" strike="noStrike">
                <a:solidFill>
                  <a:srgbClr val="ffff66"/>
                </a:solidFill>
                <a:latin typeface="Arial"/>
              </a:rPr>
              <a:t>Mobile TV : Trial DVB-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CT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rea Medmatic@ (Telemedici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atellite-Video broadca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elecomunicazioni bidirezionali via satell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SAT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Expo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200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t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satell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azione Bordo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A Spaz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urovisioni Festi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EPO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eranti-Cora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sodigit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iel Interna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roci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nistero delle Comunicazio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nistero delle Attività Produt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inistero dell’Innovazione e delle Tecnolog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gione Ven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3740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SAT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Expo</a:t>
            </a: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200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320" y="1066320"/>
            <a:ext cx="85374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Fiera di Vicenza - 12</a:t>
            </a:r>
            <a:r>
              <a:rPr b="1" i="1" lang="en-US" sz="4000" spc="-1" strike="noStrike" baseline="30000">
                <a:solidFill>
                  <a:srgbClr val="ffffff"/>
                </a:solidFill>
                <a:latin typeface="Arial"/>
              </a:rPr>
              <a:t>ma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dizion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dal 29 Settembre all’1 ottob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8T09:38:22Z</dcterms:created>
  <dc:creator>Alessandro</dc:creator>
  <dc:description/>
  <dc:language>en-US</dc:language>
  <cp:lastModifiedBy>AB</cp:lastModifiedBy>
  <dcterms:modified xsi:type="dcterms:W3CDTF">2005-06-10T09:24:30Z</dcterms:modified>
  <cp:revision>169</cp:revision>
  <dc:subject/>
  <dc:title>Una panoramica sul merca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365344</vt:r8>
  </property>
  <property fmtid="{D5CDD505-2E9C-101B-9397-08002B2CF9AE}" pid="3" name="_AuthorEmail">
    <vt:lpwstr>ipivato@satexpo.it</vt:lpwstr>
  </property>
  <property fmtid="{D5CDD505-2E9C-101B-9397-08002B2CF9AE}" pid="4" name="_AuthorEmailDisplayName">
    <vt:lpwstr>Ilaria Pivato</vt:lpwstr>
  </property>
  <property fmtid="{D5CDD505-2E9C-101B-9397-08002B2CF9AE}" pid="5" name="_EmailSubject">
    <vt:lpwstr>da Ilaria x Forum di Lucca</vt:lpwstr>
  </property>
  <property fmtid="{D5CDD505-2E9C-101B-9397-08002B2CF9AE}" pid="6" name="_PreviousAdHocReviewCycleID">
    <vt:r8>222002491</vt:r8>
  </property>
  <property fmtid="{D5CDD505-2E9C-101B-9397-08002B2CF9AE}" pid="7" name="_ReviewingToolsShownOnce">
    <vt:lpwstr/>
  </property>
</Properties>
</file>