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D6E-39EF-4627-868B-0237F9F3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B99-9EA3-47B4-98F7-0FF59AC9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738-AFDB-4AA1-89B0-5E056B5E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B7F-5E71-4519-B934-2C32E0FB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024-CA39-4F6C-B5F9-540A4B3A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4A7-1853-4097-BA22-20A758FE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624-CCF2-48C2-B146-F67E764D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26D-82C6-486E-9A47-1BBB6CF0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5C7-41DE-4AEC-90E7-11E25AC1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3C8-5001-48E4-9602-6EFAB94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EC7-0D7D-4201-8721-39123AA1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864-6A5B-4BF7-A331-4C77E3D2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B9DC-8A71-40AA-AD3D-F27205A18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9:59:33Z</dcterms:created>
  <dc:creator>giacomo</dc:creator>
  <dc:description/>
  <dc:language>en-US</dc:language>
  <cp:lastModifiedBy>giacomo</cp:lastModifiedBy>
  <dcterms:modified xsi:type="dcterms:W3CDTF">2005-06-10T10:04:54Z</dcterms:modified>
  <cp:revision>2</cp:revision>
  <dc:subject/>
  <dc:title>Diapositiva 1</dc:title>
</cp:coreProperties>
</file>