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BE9-68ED-4262-88F7-0AD4367E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A20-56A0-44DC-917B-345F5E8A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25E-1BCF-4D2B-BD92-9753256A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9E5-AE61-4D3B-83A3-65D4C11A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075B2-99BC-44DA-BB59-735DCE89FB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A2C9B-4745-4416-8105-93877209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8593D-B496-459F-859F-4365319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13C60-F304-4BF2-9676-1A6C4E7E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94700-A34E-45A1-88CD-ED36F0E6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8114A-CCED-48DC-A788-F6BDEAE0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DF540-54C4-463F-BB74-70D8B232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0D3-C06A-4DDF-8B56-28593590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0D800-AF0B-4108-8405-A2808C7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D7A58-06A3-4C2A-9C5B-A12EBA24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A17A6-ED0B-4AAA-A704-20BFDA14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AB8A8-5737-41C4-9914-1605CBBB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095A1-2F0D-40B4-B580-1A34FD120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1EB-5C6D-4238-9490-966B49E1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58F-6204-45DE-BC70-BE8B1394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9FD-10BC-4740-ADA0-8C8C020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BEA-9C38-4B71-A90C-35885EEB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8F8-4354-4442-ABAD-42E0D29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1C0-B278-4BB1-91CA-3CD776A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904-D6F8-42CE-B203-D053F417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499"/>
              </a:spcBef>
              <a:buClr>
                <a:srgbClr val="a5002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2DD2-7CB6-4111-A4B9-00A0503C89AC}" type="datetime3">
              <a:rPr b="0" lang="en-US" sz="1000" spc="-1" strike="noStrike">
                <a:solidFill>
                  <a:srgbClr val="000000"/>
                </a:solidFill>
                <a:latin typeface="Lucida San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777777"/>
                </a:solidFill>
                <a:latin typeface="Arial"/>
              </a:rPr>
              <a:t>Company</a:t>
            </a: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 proprietary and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4840" y="640044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Page:</a:t>
            </a:r>
            <a:fld id="{12CB35F2-DE49-48A2-8844-8CA730B3ECEF}" type="slidenum">
              <a:rPr b="0" lang="en-US" sz="10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9360" cy="355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274760" y="25560"/>
            <a:ext cx="1087560" cy="355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59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30F7-C8D2-4BDE-B394-BF87F3E8E5EE}" type="datetime3">
              <a:rPr b="0" lang="en-US" sz="1000" spc="-1" strike="noStrike">
                <a:solidFill>
                  <a:srgbClr val="000000"/>
                </a:solidFill>
                <a:latin typeface="Lucida San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7314840" y="640044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Page:</a:t>
            </a:r>
            <a:fld id="{788458F0-5840-45E2-8FE0-48D12544F989}" type="slidenum">
              <a:rPr b="0" lang="en-US" sz="10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55520"/>
            <a:ext cx="198432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404120" y="155520"/>
            <a:ext cx="1663560" cy="53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861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222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Lucida Sans"/>
              </a:rPr>
              <a:t>Click to edit the outline text format</a:t>
            </a: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400"/>
              </a:spcBef>
              <a:buClr>
                <a:srgbClr val="a50021"/>
              </a:buClr>
              <a:buSzPct val="50000"/>
              <a:buFont typeface="Wingdings 2" charset="2"/>
              <a:buChar char="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349"/>
              </a:spcBef>
              <a:buClr>
                <a:srgbClr val="a50021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349"/>
              </a:spcBef>
              <a:buClr>
                <a:srgbClr val="a50021"/>
              </a:buClr>
              <a:buSzPct val="60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44956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640080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BAEC-0EC9-47D8-9C26-D8A729E5C68F}" type="datetime3">
              <a:rPr b="0" lang="en-US" sz="1000" spc="-1" strike="noStrike">
                <a:solidFill>
                  <a:srgbClr val="ffffff"/>
                </a:solidFill>
                <a:latin typeface="Lucida San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16920" y="6670800"/>
            <a:ext cx="938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f5f5f"/>
                </a:solidFill>
                <a:latin typeface="Lucida Sans"/>
              </a:rPr>
              <a:t>Ver. 1.0 – 30/03/20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B1564-9CB5-4003-8E8C-155E2B81D177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A7092ED-8899-45B1-865F-DBEE870AD0E9}" type="datetime3">
              <a:rPr lang="en-US"/>
              <a:t>July 30, 2026</a:t>
            </a:fld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Copertura della Sperimentazione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diffusione del Multiplex Home Shopping Europe Broadcasting relativo alla provincia di Lucca, Pisa e Livorno, avviene attraverso i siti: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onte Pianello, Comune di Capannori (LU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- Pietra Pertusa, Comune di Capannori (LU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- Monte Serra Basso, Comune di Calci (PI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Famiglie Raggiunte: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172.540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Kilometri Quadri Coperti: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1.072,2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 Mbit di banda dedicata all’applicazioni MHP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.400 decoder interattivi presenti nella zona coperta (Ottobre 2004)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d oggi HSEB ha distribuiti gratuitamente 1100 decoder MHP ad un campione di utenza di cui 40 hanno espresso volontà di partecipare alla sperimentazion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611-ADA8-4B34-9A2F-D1F1594984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E5E3C-FDB2-4D60-BAD3-09C794BB77D9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Considerazioni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uove diverse forze competitive stanno dando forma e sostanza all’industria emergent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l mondo ICT nulla accade di colpo, ma tutto cambia per processi, spesso lunghi: tutto si stratifica, ma ogni cosa è impermanent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 sfide sono organizzative prima che tecnologiche, strategiche e di mercato (demand side) prima che competitive (supply side). Occorre: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Fare sistem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periment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ccettare l’incertezz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67D-9ECF-4761-AE46-2E4EA007B57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78086-73D8-4DF5-9917-C264353BB4DB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  <a:ea typeface="Times New Roman"/>
              </a:rPr>
              <a:t>CANALE DTT LAVORO</a:t>
            </a:r>
            <a:r>
              <a:rPr b="0" i="1" lang="en-US" sz="1800" spc="-1" strike="noStrike">
                <a:solidFill>
                  <a:srgbClr val="808080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808080"/>
              </a:solidFill>
              <a:latin typeface="Lucida San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4038480"/>
            <a:ext cx="8381880" cy="2163960"/>
            <a:chOff x="533520" y="4038480"/>
            <a:chExt cx="8381880" cy="21639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057400" y="4259160"/>
              <a:ext cx="16304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419720" y="4267080"/>
              <a:ext cx="2286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533520" y="4038480"/>
              <a:ext cx="99036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315200" y="4221000"/>
              <a:ext cx="126540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533520" y="5105520"/>
              <a:ext cx="160020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2598840" y="5105520"/>
              <a:ext cx="906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7"/>
            <a:stretch/>
          </p:blipFill>
          <p:spPr>
            <a:xfrm>
              <a:off x="7315200" y="5105520"/>
              <a:ext cx="160020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8"/>
            <a:stretch/>
          </p:blipFill>
          <p:spPr>
            <a:xfrm>
              <a:off x="4022640" y="5326200"/>
              <a:ext cx="2987640" cy="6174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1" name=""/>
          <p:cNvGraphicFramePr/>
          <p:nvPr/>
        </p:nvGraphicFramePr>
        <p:xfrm>
          <a:off x="2514600" y="1447920"/>
          <a:ext cx="4062240" cy="12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1447920"/>
                    <a:ext cx="40622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7890D-EB61-448B-8FB5-146020651F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5F43F9-EF28-4705-AF88-845B043138E8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Perché un Canale sul Lavor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’iDTV è un nuovo canale interattivo, che a ragione molti ritengono altamente pervasivo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ei servizi interattivi è sempre opportuno rispettare la regola delle tre U: Utilità, Usabilità e Ubiquità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’obiettivo qui è di sperimentare contemporaneamente più piani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’utilità dei servizi al cittadino, attorno a un tema importante: il lavor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’utilizzabilità di contenuti digitali già esistenti, sul canale iDTV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 potenzialità del canale DTT non solo per contenuti e servizi informativi, free o pay, ma anche per completare transazioni economiche a valere su contenuti, prodotti e servizi di terz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er realizzare il progetto, abbiamo costruito un’ATI tra realtà ricche di contenuti, di tecnologie, di competenze specialistiche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343-2A4A-43A3-A859-CBEDBDC9C6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51C6F-07C4-49D7-A2BF-75E66C89D04E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I Partner del Canale DTT Lavor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Giunti Labs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ontenuti formativi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iattaforma per il t-Learning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Home Shopping Europe Broadcasting</a:t>
            </a:r>
            <a:r>
              <a:rPr b="0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MUX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entro Servizi/Monitoraggi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all Center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Il Sole 24 Or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Banca Dati On Line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Altri contenuti digitali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Norme e Approfondimenti)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Mobilmat/Mobis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Gestione del Gateway di Pagament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iattaforma transazionale e Autenticazione delle transazioni (MTS)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143000"/>
            <a:ext cx="4191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Politecnico di Mila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mazione o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e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Talent Manager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termediazione 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Base Dati Utenti e Azi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Ubiqu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rogram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System Integ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MHP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W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SP per canale di Ri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Dial-up V.90/ADSL/GP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ousing e Ho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761760" cy="32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1067040" cy="33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821040" y="1523880"/>
            <a:ext cx="522360" cy="493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834320" y="1371600"/>
            <a:ext cx="623880" cy="398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429000" y="4929120"/>
            <a:ext cx="59688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4309920" y="4916520"/>
            <a:ext cx="338400" cy="341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7696080" y="4788000"/>
            <a:ext cx="838440" cy="57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7543800" y="2590920"/>
            <a:ext cx="1114560" cy="230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7507440" y="3759120"/>
            <a:ext cx="1179360" cy="3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5CF-5EF3-4F26-9C58-B0716A1F9A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C4CEE-1986-431C-BFFF-556F50F2E368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49320" y="1295280"/>
            <a:ext cx="1674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3600" y="1295280"/>
            <a:ext cx="1899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Il Perimetro del Progett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344600" cy="573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503280" cy="474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696080" y="2362320"/>
            <a:ext cx="459000" cy="463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400800" y="4114800"/>
            <a:ext cx="1136520" cy="779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47960" y="5918040"/>
            <a:ext cx="16668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0280" y="5105520"/>
            <a:ext cx="1171440" cy="78552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em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4680" y="4191120"/>
            <a:ext cx="1143000" cy="78552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943600" y="4826160"/>
            <a:ext cx="1600200" cy="482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8144000">
            <a:off x="4199760" y="35582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Broadcast, Tecnologie, Integ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057400" y="1904760"/>
            <a:ext cx="4952880" cy="38923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94000" y="1905120"/>
            <a:ext cx="2479680" cy="194760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2624040" y="2117880"/>
            <a:ext cx="1201680" cy="377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5383080" y="2046240"/>
            <a:ext cx="777960" cy="498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4110120" y="2895480"/>
            <a:ext cx="919080" cy="507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3825720" y="4027320"/>
            <a:ext cx="1486080" cy="308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08640" y="2532240"/>
            <a:ext cx="1072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onten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gi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8040" y="2532240"/>
            <a:ext cx="122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n-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8560" y="4368960"/>
            <a:ext cx="130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Market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71640" y="339084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Micro Paga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2C1-0028-4C42-A51A-11D37D3C388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DE9D8-D539-410E-A2B1-E8138A149B4D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I Servizi del Canale DTT Lavor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I servizi che verranno sviluppati ed offerti ai cittadin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Informazion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a pagamento e gratuite, quali leggi, regolamenti, contratti, concorsi;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orsi di formazion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corsi di aggiornamento, questionari di auto-valutazione, per lo più a pagamento;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Servizi di communit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tra cui un marketplace per l’incontro tra la domanda e l’offerta di lavoro, forum con esperti di settore, pre-test delle aziende.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Vendit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di strumenti che possano supportare l’attività di ricerca e miglioramento del proprio lavoro (libri, cd, software applicativi, PC, ecc.);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376-24EA-47C9-A567-C8BE000FBC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B15BA-DCA3-4630-BB5F-ED8BA9F226A8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A chi si rivolge il Canale DTT Lavor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voratori (offerta di lavoro):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lavoratori già impiegati, che desiderino valutare meglio la propria posizione ed evolvere verso altre posizion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persone in cerca di lavoro, come giovani al primo impiego e non occupat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ziende ed Enti (domanda di lavoro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Aziende con posizioni aperte che cercano candidat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Inserzionisti del Marketplac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stituzioni pubbliche e privat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Amministrazioni locali e central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Aziende di servizi legate al lavor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ED9-4791-4220-B46D-186F33104A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92550-F87D-4B07-8B67-4B8AEAA3F352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Elementi Tecnologici Trattati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nterazione col Centro Servizi tramite Canale di Ritorn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Broadband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V9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dentificazione dell’utente tramite Smartcard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arta Nazionale dei Servizi (CNS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arta D’identità Elettronica (CI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arta per e-commerc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icurezz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anale di ritorn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Accesso alle risorse del decod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Autenticazione applicazio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F18-9EA8-4C86-B772-526B034A3F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927DE-8A61-4084-AAF2-6731ED85B052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Sperimentazione e Monitoraggi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Durante la sperimentazione sarà interessante verificare l’utilizzo da parte degli Utenti, mediante opportune tecniche di monitoragg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Politecnico di Milano e HSEB hanno predisposto una metodologia e dedicheranno consistenti risorse professional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arco decoder coinvolto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Parco di diverse migliaia di Utenti già in possesso di Decod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1100 Decoder distribuiti da HSEB su richiesta al Call Cent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irca 100 decoder ad elevata interattività da distribuir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onitoraggio su un campione di 500 utenti tramit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Questionar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Interviste telefonich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2BF-5E05-4D15-AB75-9F788D77A9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E3C77-7F8C-41BC-AF77-A9A799FB2003}" type="datetime3">
              <a:rPr lang="en-US"/>
              <a:t>July 30, 2026</a:t>
            </a:fld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1:54:05Z</dcterms:created>
  <dc:creator>Manuela Demontis</dc:creator>
  <dc:description/>
  <dc:language>en-US</dc:language>
  <cp:lastModifiedBy>dcaloger</cp:lastModifiedBy>
  <dcterms:modified xsi:type="dcterms:W3CDTF">2005-06-10T09:51:04Z</dcterms:modified>
  <cp:revision>308</cp:revision>
  <dc:subject/>
  <dc:title>Nessun titolo diapositiva</dc:title>
</cp:coreProperties>
</file>