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0D33-369B-4C17-BCBA-9211F5204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B8A4-5B1B-401E-9815-BBCC99962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AEF-A864-4184-8521-4E1A84A8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2634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122-1BC6-4159-BE0F-E4F11CC6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26348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426348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1B2-6FAA-488B-AB7F-794543B0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67652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67652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26348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426348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426348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6D11-A1C3-4733-AB11-AD9E44C9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BFC4-D00A-48FA-B910-D6AC3A2E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BD4-4046-4725-9FDF-9A279436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AF0-E501-48DF-AB34-98250A9A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38B-1A01-4259-90BE-6F9AD8CB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B2B-A325-41D1-BCA8-408283EA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26348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80C-D44F-40A9-A898-1CC7EA78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426348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8141-46C4-44D5-8D7A-51F72BE7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2634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262-6355-4E3A-BBDE-39346BDF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fld id="{BC2E3F0D-E6C2-4625-8390-FE5C6D42E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96080" y="152280"/>
            <a:ext cx="1308240" cy="37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33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038480"/>
            <a:ext cx="5486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ndrew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ode-DVB-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C0F-80B6-43B0-940F-B550EED0DE1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00200" y="1981080"/>
            <a:ext cx="185436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8760" y="762120"/>
            <a:ext cx="8562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entury Gothic"/>
              </a:rPr>
              <a:t>In DVB-T systems the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ptimum gain setting is as fol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20000"/>
              <a:buFont typeface="Century Gothic"/>
              <a:buChar char="–"/>
              <a:tabLst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In ICE enabled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ystems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the gain limit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20000"/>
              <a:buFont typeface="Century Gothic"/>
              <a:buChar char="–"/>
              <a:tabLst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Isolation + 20 dB  or    Hardware Power  or   Hardware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20000"/>
              <a:buFont typeface="Century Gothic"/>
              <a:buChar char="–"/>
              <a:tabLst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Exampl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Downlink input level from donor antenna: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-50 d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Rated output power per channel: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+33 d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Isolation: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+7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Isolation limited gain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= 70+20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= 9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Hardware Power limited gain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= 33d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Hardware Gain limited gain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= 33+50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= 83dB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≤ 85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4686480"/>
                <a:tab algn="l" pos="5778360"/>
                <a:tab algn="l" pos="5943600"/>
                <a:tab algn="l" pos="6629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Actual Gain setting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</a:rPr>
              <a:t>= 8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RF Ga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1981080"/>
            <a:ext cx="198108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1981080"/>
            <a:ext cx="190512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13360" y="4648320"/>
            <a:ext cx="963000" cy="485640"/>
            <a:chOff x="513360" y="4648320"/>
            <a:chExt cx="963000" cy="485640"/>
          </a:xfrm>
        </p:grpSpPr>
        <p:sp>
          <p:nvSpPr>
            <p:cNvPr id="103" name=""/>
            <p:cNvSpPr/>
            <p:nvPr/>
          </p:nvSpPr>
          <p:spPr>
            <a:xfrm>
              <a:off x="574560" y="4648320"/>
              <a:ext cx="901800" cy="485640"/>
            </a:xfrm>
            <a:prstGeom prst="rightArrow">
              <a:avLst>
                <a:gd name="adj1" fmla="val 50000"/>
                <a:gd name="adj2" fmla="val 46423"/>
              </a:avLst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3360" y="472608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entury Gothic"/>
                </a:rPr>
                <a:t>Lim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371600" y="55627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6C0-96D0-4AD6-B265-0ECF1396C3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2720" y="1428480"/>
            <a:ext cx="907092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ower: 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1-20W aver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ain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50-85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Bandwidth/Module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1 or 2 * 8MHz blocks (3 blocks in roadm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Expansion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2 modules possible (up to 6 blocks per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aster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ltering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lectable digital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tup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Possible measurement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solation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nterference canc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upervision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Remote via a GSM/UMTS mod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User Interface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Local and remote web based (ht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ct val="7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upervision: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NMP or SMS for connectivity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86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3094200"/>
                <a:tab algn="l" pos="3322800"/>
                <a:tab algn="l" pos="5486400"/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ode DVB-T Basic Specif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7985-F166-44FC-9CEF-87B7AAC935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57560" y="2254320"/>
            <a:ext cx="3381120" cy="3552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4800600" y="3777840"/>
            <a:ext cx="838080" cy="1522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191120" y="2634840"/>
            <a:ext cx="1523880" cy="3049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48600" y="3468600"/>
            <a:ext cx="3004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rimary Channel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lter (6-16M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terference canc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97920" y="2328840"/>
            <a:ext cx="325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ary Channel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lter (6-16M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terference canc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4600" y="3166920"/>
            <a:ext cx="182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Linea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Multi-car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05120" y="359712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76960" y="4309920"/>
            <a:ext cx="128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60044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85760" y="5834160"/>
            <a:ext cx="322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nput and Output RF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522612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522612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57680" y="1795320"/>
            <a:ext cx="27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IP-65 Outdoor Cabi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191120" y="20854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ost components are field replace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ode-DVB-T Un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FD52-E356-4532-BF5D-65371AA2E7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33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1960" y="4183200"/>
            <a:ext cx="83628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ANDREW CORPORATION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ne Company. A World of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81480" y="6400800"/>
            <a:ext cx="3962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09880" y="5518080"/>
            <a:ext cx="1689120" cy="47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DA9E-A735-4115-9DE9-8262262CF87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VB-T Background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VB-T networks can be planned in the same way as analogue networks, using an individual set of radio frequencies for each transmiss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igration is inherent in the system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elayed signals arriving within the guard interval can be beneficial to a Coded Orthogonal Frequency Division Multiplex (COFDM) receiver, rather than interfering as with analogue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mulcast and multi-path are accep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ngle Frequency Networks (SFN) techniques can be used to fill gaps in coverage on both a small and large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1-F1 Repeaters can be an important network compon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D4EF-AA3F-4A64-9649-876A0F38994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VB-T Background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3657600"/>
            <a:ext cx="6191280" cy="144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934320" y="4838760"/>
            <a:ext cx="53316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18116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ded Orthogonal Frequency Division Multiplex (COFDM) has many options for flexi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Number of Carriers: 8k-mode (896 µs) and 2k-mode (224 µ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odulation Schemes: QPSK, 16-QAM and 64-Q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Bandwidth: 8MHz (preferred), 7MHz and 6MHz opt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uard Interval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629400" y="5105520"/>
            <a:ext cx="45720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51960" y="5513400"/>
            <a:ext cx="605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Note: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s guard interval is not enough to use most rep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All other guard intervals are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B44-F10B-48DB-9D3B-4EEEBBD7A4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VB-T C/N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360" y="1924200"/>
            <a:ext cx="5686560" cy="3638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343520" y="5665680"/>
            <a:ext cx="699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Note: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/N dictates what feedback level is acceptable for F1-F1 rep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High priority requires a gain margin &gt; C/N &gt;15d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94840" y="12193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/N requirements are higher for high priority signals than low priority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62B-7344-4FAB-B03D-F1FE372B8F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General Repeater Remar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4113360"/>
            <a:ext cx="5410440" cy="167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920" y="1219320"/>
            <a:ext cx="853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Gothic"/>
              </a:rPr>
              <a:t>An off-the-air RF repeater needs sufficient downlink input signal from the serving transmit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Gothic"/>
              </a:rPr>
              <a:t>The selected repeater type should be capable of operating close to its rated power (limited by isolation usuall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Gothic"/>
              </a:rPr>
              <a:t>Antenna selection is important for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DVB-T</a:t>
            </a:r>
            <a:r>
              <a:rPr b="0" lang="en-GB" sz="2200" spc="-1" strike="noStrike">
                <a:solidFill>
                  <a:srgbClr val="000000"/>
                </a:solidFill>
                <a:latin typeface="Century Gothic"/>
              </a:rPr>
              <a:t> applications.  Be aware the value of antenna gain as it is (nearly) intermodulation free. Antennas are much larger at lower frequency than higher frequency for the same g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204-235B-446E-800D-D6CCCD40875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67440" y="2625840"/>
            <a:ext cx="2695680" cy="1241280"/>
          </a:xfrm>
          <a:prstGeom prst="ellipse">
            <a:avLst/>
          </a:prstGeom>
          <a:solidFill>
            <a:srgbClr val="bbe0e3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Covered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65400" y="1495440"/>
            <a:ext cx="4444920" cy="1581120"/>
          </a:xfrm>
          <a:prstGeom prst="ellipse">
            <a:avLst/>
          </a:prstGeom>
          <a:solidFill>
            <a:srgbClr val="a7d5b0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19280" y="1459080"/>
          <a:ext cx="1050840" cy="41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1459080"/>
                    <a:ext cx="1050840" cy="41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948280" y="1962000"/>
            <a:ext cx="0" cy="37339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32640" y="1968480"/>
            <a:ext cx="190440" cy="1015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3840" y="2266920"/>
            <a:ext cx="4378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33640" y="196524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entury Gothic"/>
              </a:rPr>
              <a:t>Path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8920" y="188424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9640" y="5681520"/>
            <a:ext cx="20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VB-T Transmi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89920" y="56386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entury Gothic"/>
              </a:rPr>
              <a:t>Repe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130400">
            <a:off x="5305320" y="2585520"/>
            <a:ext cx="893880" cy="765360"/>
          </a:xfrm>
          <a:custGeom>
            <a:avLst/>
            <a:gdLst/>
            <a:ahLst/>
            <a:rect l="l" t="t" r="r" b="b"/>
            <a:pathLst>
              <a:path w="680" h="648">
                <a:moveTo>
                  <a:pt x="208" y="0"/>
                </a:moveTo>
                <a:cubicBezTo>
                  <a:pt x="104" y="164"/>
                  <a:pt x="0" y="328"/>
                  <a:pt x="64" y="432"/>
                </a:cubicBezTo>
                <a:cubicBezTo>
                  <a:pt x="128" y="536"/>
                  <a:pt x="504" y="600"/>
                  <a:pt x="592" y="624"/>
                </a:cubicBezTo>
                <a:cubicBezTo>
                  <a:pt x="680" y="648"/>
                  <a:pt x="636" y="612"/>
                  <a:pt x="592" y="5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13200" y="3179880"/>
            <a:ext cx="100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Repeater Setup Defini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62680" y="2844720"/>
            <a:ext cx="191880" cy="1015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53040" y="2419200"/>
            <a:ext cx="60984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66080" y="969840"/>
            <a:ext cx="986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Don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entury Gothic"/>
              </a:rPr>
              <a:t>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824440" y="1533600"/>
            <a:ext cx="609840" cy="406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757400" y="3105000"/>
            <a:ext cx="609480" cy="406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748480" y="4933800"/>
            <a:ext cx="415800" cy="6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895-D007-4022-A18F-B619205C15C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3422520"/>
            <a:ext cx="3733920" cy="290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191120" y="3429000"/>
            <a:ext cx="3886200" cy="2900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Isol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219320"/>
            <a:ext cx="79660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Antenna iso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Can’t be calculated exactly, but may be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Varies with frequency and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Is impacted by the environment it is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The higher the front-to-back ratio antenna are b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Gothic"/>
              </a:rPr>
              <a:t>Shielding grids may be used between the anten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D87-EF85-4F48-82F2-D8757C220F2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3733920"/>
            <a:ext cx="304812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terference Cance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9880" y="1249200"/>
            <a:ext cx="815832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e Node-DVB-T has integrated ICE (Digital </a:t>
            </a:r>
            <a:r>
              <a:rPr b="0" lang="en-US" sz="2000" spc="-1" strike="noStrike">
                <a:solidFill>
                  <a:srgbClr val="ff0000"/>
                </a:solidFill>
                <a:latin typeface="Century Gothic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terference </a:t>
            </a:r>
            <a:r>
              <a:rPr b="0" lang="en-US" sz="2000" spc="-1" strike="noStrike">
                <a:solidFill>
                  <a:srgbClr val="ff0000"/>
                </a:solidFill>
                <a:latin typeface="Century Gothic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ncellation </a:t>
            </a:r>
            <a:r>
              <a:rPr b="0" lang="en-US" sz="2000" spc="-1" strike="noStrike">
                <a:solidFill>
                  <a:srgbClr val="ff0000"/>
                </a:solidFill>
                <a:latin typeface="Century Gothic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quipment) algorithms are based on adaptive filtering techniqu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This filter adapts to the dynamic multipath structure of the leakage signals and cancels them o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Node-C’s ICE allows the unit to operate at negative gain margins while preventing oscillation and preserving wave form qua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de-DVB Gain Margin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tandard Gain Mar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ain = Isolation + 20dB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ain = Isolation –1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ain Margin (Node-C) = -20dB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Gain Margin = +15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Improvement = 35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40D-526A-4B02-A9BB-912A4901DD4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779480" y="2714760"/>
            <a:ext cx="4856400" cy="3305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61240" y="3552840"/>
            <a:ext cx="1371600" cy="23274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16 MHz instantaneous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35 dB cancellation (65 dB isolation for 85dB of g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0000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Automatic setup and continuous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terference Cance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w Propriet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6F9-D91E-4AB4-8D03-9FE010FD03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9,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4:09:46Z</dcterms:created>
  <dc:creator>MIWILLIAMSO</dc:creator>
  <dc:description/>
  <dc:language>en-US</dc:language>
  <cp:lastModifiedBy>ANCASINI</cp:lastModifiedBy>
  <dcterms:modified xsi:type="dcterms:W3CDTF">2005-06-09T17:55:31Z</dcterms:modified>
  <cp:revision>53</cp:revision>
  <dc:subject/>
  <dc:title>Andrew Node-C Training</dc:title>
</cp:coreProperties>
</file>