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png" ContentType="image/png"/>
  <Override PartName="/ppt/media/image3.png" ContentType="image/pn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7196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69560" y="861480"/>
            <a:ext cx="464364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65840" cy="3724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599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52560" indent="-190440">
              <a:spcBef>
                <a:spcPts val="15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333440" indent="-190440">
              <a:spcBef>
                <a:spcPts val="15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714680" indent="-190800">
              <a:spcBef>
                <a:spcPts val="1599"/>
              </a:spcBef>
              <a:buClr>
                <a:srgbClr val="d073ce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714680" indent="-190800">
              <a:spcBef>
                <a:spcPts val="15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714680" indent="-190800">
              <a:spcBef>
                <a:spcPts val="15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" name="LCI_logo" descr=""/>
          <p:cNvPicPr/>
          <p:nvPr/>
        </p:nvPicPr>
        <p:blipFill>
          <a:blip r:embed="rId2"/>
          <a:stretch/>
        </p:blipFill>
        <p:spPr>
          <a:xfrm>
            <a:off x="0" y="152280"/>
            <a:ext cx="1073160" cy="990720"/>
          </a:xfrm>
          <a:prstGeom prst="rect">
            <a:avLst/>
          </a:prstGeom>
          <a:ln w="0">
            <a:noFill/>
          </a:ln>
        </p:spPr>
      </p:pic>
      <p:pic>
        <p:nvPicPr>
          <p:cNvPr id="3" name="LOGO_UNI" descr=""/>
          <p:cNvPicPr/>
          <p:nvPr/>
        </p:nvPicPr>
        <p:blipFill>
          <a:blip r:embed="rId3"/>
          <a:stretch/>
        </p:blipFill>
        <p:spPr>
          <a:xfrm>
            <a:off x="82296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246240" y="6400800"/>
            <a:ext cx="641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afd00"/>
                </a:solidFill>
                <a:latin typeface="Book Antiqua"/>
              </a:rPr>
              <a:t>Forum europeo sulla televisione digitale terrestre, 10 Giugno 2005, Lucc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14320" y="6413400"/>
            <a:ext cx="1094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738A-BFA4-49F0-93C7-51CC22EC8ADA}" type="slidenum">
              <a:rPr b="1" lang="en-US" sz="1400" spc="-1" strike="noStrike">
                <a:solidFill>
                  <a:srgbClr val="fafd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wmf"/><Relationship Id="rId3" Type="http://schemas.openxmlformats.org/officeDocument/2006/relationships/image" Target="../media/image18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CI_logo" descr=""/>
          <p:cNvPicPr/>
          <p:nvPr/>
        </p:nvPicPr>
        <p:blipFill>
          <a:blip r:embed="rId1"/>
          <a:stretch/>
        </p:blipFill>
        <p:spPr>
          <a:xfrm>
            <a:off x="0" y="152280"/>
            <a:ext cx="107316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LOGO_UNI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afd00"/>
                </a:solidFill>
                <a:latin typeface="Arial"/>
              </a:rPr>
              <a:t>La protezione dei contenuti</a:t>
            </a:r>
            <a:endParaRPr b="0" i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to Cappellini e Roberto Caldell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niversità di Firenz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3720" y="1695600"/>
            <a:ext cx="4498920" cy="449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Absolute difference (x 32)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Fingerprinting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o trace the source of illegal copies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opy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information stored in a watermark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can control digital recording devic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Data authentica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ragile watermarks can be used to check the authenticity of the dat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Hidden notations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or Medical Safety, embedding the date and the patient’s name in medical images could be a useful safety measure</a:t>
            </a:r>
            <a:r>
              <a:rPr b="0" lang="it-IT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opyright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he data owner can embed in his document a watermark representing copyright informatio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Fingerprinting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o trace the source of illegal copies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opy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information stored in a watermark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can control digital recording devic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Data authentica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ragile watermarks can be used to check the authenticity of the dat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Hidden notations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or Medical Safety, embedding the date and the patient’s name in medical images could be a useful safety measure</a:t>
            </a:r>
            <a:r>
              <a:rPr b="0" lang="it-IT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Copyright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he data owner can embed in his document a watermark representing copyright informatio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Data Authentica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marked document with a watermark distributed in all the imag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IF9905_6" descr=""/>
          <p:cNvPicPr/>
          <p:nvPr/>
        </p:nvPicPr>
        <p:blipFill>
          <a:blip r:embed="rId1"/>
          <a:stretch/>
        </p:blipFill>
        <p:spPr>
          <a:xfrm>
            <a:off x="1982880" y="1446120"/>
            <a:ext cx="45241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Data Authentica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mpered imag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IF9905_7" descr=""/>
          <p:cNvPicPr/>
          <p:nvPr/>
        </p:nvPicPr>
        <p:blipFill>
          <a:blip r:embed="rId1"/>
          <a:stretch/>
        </p:blipFill>
        <p:spPr>
          <a:xfrm>
            <a:off x="1982880" y="1446120"/>
            <a:ext cx="45241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Data Authentica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mark checking reveals the tampering of the document, highlighting the modified reg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IF9905_8" descr=""/>
          <p:cNvPicPr/>
          <p:nvPr/>
        </p:nvPicPr>
        <p:blipFill>
          <a:blip r:embed="rId1"/>
          <a:stretch/>
        </p:blipFill>
        <p:spPr>
          <a:xfrm>
            <a:off x="1974960" y="1438200"/>
            <a:ext cx="45273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1840" y="1600200"/>
            <a:ext cx="1366920" cy="949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7160" y="2914560"/>
            <a:ext cx="1219320" cy="116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6400" y="2819520"/>
            <a:ext cx="56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391520" y="26668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77120" y="3733920"/>
            <a:ext cx="190476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563868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ta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 flipV="1">
            <a:off x="2133360" y="2666520"/>
            <a:ext cx="106740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flipV="1">
            <a:off x="2286000" y="2514600"/>
            <a:ext cx="106668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4720" y="2561760"/>
            <a:ext cx="1398600" cy="203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6880" y="2247840"/>
            <a:ext cx="2618640" cy="63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38480" y="518148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55920" y="5727600"/>
            <a:ext cx="1905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t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img017" descr=""/>
          <p:cNvPicPr/>
          <p:nvPr/>
        </p:nvPicPr>
        <p:blipFill>
          <a:blip r:embed="rId5"/>
          <a:stretch/>
        </p:blipFill>
        <p:spPr>
          <a:xfrm>
            <a:off x="2913120" y="4648320"/>
            <a:ext cx="925560" cy="958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068480" y="4648320"/>
            <a:ext cx="985680" cy="98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21590400">
            <a:off x="2285640" y="4952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715000"/>
            <a:ext cx="1905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701120" y="4267080"/>
            <a:ext cx="944280" cy="117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124080"/>
            <a:ext cx="944280" cy="117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opyright protection 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3110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 rot="9600">
            <a:off x="2223720" y="350532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343400"/>
            <a:ext cx="19047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86320" y="320040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80080" y="3776760"/>
            <a:ext cx="3398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9800" y="3772080"/>
            <a:ext cx="3398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img017" descr=""/>
          <p:cNvPicPr/>
          <p:nvPr/>
        </p:nvPicPr>
        <p:blipFill>
          <a:blip r:embed="rId3"/>
          <a:stretch/>
        </p:blipFill>
        <p:spPr>
          <a:xfrm>
            <a:off x="2962440" y="3309840"/>
            <a:ext cx="976320" cy="1065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38480" y="4608360"/>
            <a:ext cx="2013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3162240"/>
            <a:ext cx="27432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der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termark W is pres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 /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91040" y="244152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96280" y="190800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92680" y="5715000"/>
            <a:ext cx="358920" cy="698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63560" y="5791320"/>
            <a:ext cx="65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83120" y="502884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opyright protec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Requirement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equirements are all related each othe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off  requi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FIG1" descr=""/>
          <p:cNvPicPr/>
          <p:nvPr/>
        </p:nvPicPr>
        <p:blipFill>
          <a:blip r:embed="rId1">
            <a:grayscl/>
            <a:lum bright="-18000"/>
          </a:blip>
          <a:srcRect l="4171" t="4159" r="37374" b="3110"/>
          <a:stretch/>
        </p:blipFill>
        <p:spPr>
          <a:xfrm>
            <a:off x="304920" y="2565360"/>
            <a:ext cx="5333760" cy="4368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5486400" y="3352680"/>
            <a:ext cx="3220920" cy="1447560"/>
            <a:chOff x="5486400" y="3352680"/>
            <a:chExt cx="3220920" cy="1447560"/>
          </a:xfrm>
        </p:grpSpPr>
        <p:pic>
          <p:nvPicPr>
            <p:cNvPr id="138" name="FIG1" descr=""/>
            <p:cNvPicPr/>
            <p:nvPr/>
          </p:nvPicPr>
          <p:blipFill>
            <a:blip r:embed="rId2">
              <a:grayscl/>
              <a:lum bright="-18000"/>
            </a:blip>
            <a:srcRect l="61805" t="32532" r="28182" b="36745"/>
            <a:stretch/>
          </p:blipFill>
          <p:spPr>
            <a:xfrm>
              <a:off x="5486400" y="3352680"/>
              <a:ext cx="914400" cy="1447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" name=""/>
            <p:cNvGraphicFramePr/>
            <p:nvPr/>
          </p:nvGraphicFramePr>
          <p:xfrm>
            <a:off x="6324480" y="3454200"/>
            <a:ext cx="2382840" cy="134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454200"/>
                      <a:ext cx="2382840" cy="13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1" name="FIG1" descr=""/>
          <p:cNvPicPr/>
          <p:nvPr/>
        </p:nvPicPr>
        <p:blipFill>
          <a:blip r:embed="rId5">
            <a:grayscl/>
            <a:lum bright="-18000"/>
          </a:blip>
          <a:srcRect l="61805" t="33273" r="3126" b="36004"/>
          <a:stretch/>
        </p:blipFill>
        <p:spPr>
          <a:xfrm>
            <a:off x="5486400" y="4572000"/>
            <a:ext cx="3200400" cy="1447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8120" y="3809880"/>
            <a:ext cx="2971800" cy="160020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391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Video watermarking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iginal 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marked 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tacked 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752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307"/>
                </a:moveTo>
                <a:lnTo>
                  <a:pt x="4707" y="7307"/>
                </a:lnTo>
                <a:lnTo>
                  <a:pt x="5090" y="7673"/>
                </a:lnTo>
                <a:lnTo>
                  <a:pt x="14299" y="7673"/>
                </a:lnTo>
                <a:lnTo>
                  <a:pt x="14856" y="8230"/>
                </a:lnTo>
                <a:lnTo>
                  <a:pt x="14856" y="8778"/>
                </a:lnTo>
                <a:lnTo>
                  <a:pt x="16701" y="8778"/>
                </a:lnTo>
                <a:lnTo>
                  <a:pt x="17067" y="8230"/>
                </a:lnTo>
                <a:lnTo>
                  <a:pt x="17806" y="8230"/>
                </a:lnTo>
                <a:lnTo>
                  <a:pt x="17806" y="13383"/>
                </a:lnTo>
                <a:lnTo>
                  <a:pt x="17067" y="13383"/>
                </a:lnTo>
                <a:lnTo>
                  <a:pt x="16701" y="12834"/>
                </a:lnTo>
                <a:lnTo>
                  <a:pt x="14856" y="12834"/>
                </a:lnTo>
                <a:lnTo>
                  <a:pt x="14856" y="14114"/>
                </a:lnTo>
                <a:lnTo>
                  <a:pt x="5273" y="14114"/>
                </a:lnTo>
                <a:lnTo>
                  <a:pt x="5273" y="9884"/>
                </a:lnTo>
                <a:lnTo>
                  <a:pt x="5090" y="9884"/>
                </a:lnTo>
                <a:lnTo>
                  <a:pt x="4707" y="10249"/>
                </a:lnTo>
                <a:lnTo>
                  <a:pt x="3794" y="10249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971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19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is a digital watermark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gital watermark characteristic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a authenti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right prot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 example: video watermark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 well-known watermark!!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watermark is embedded into a banknote directly during the papermaking process, and is therefore very difficult to forg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3" name="FIG11c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5483160" cy="309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3200400"/>
            <a:ext cx="685800" cy="327672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 well-known watermark!!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hidden from view during normal use, only becoming visible as a result of a special viewing process (holding the bill up to the light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carries information about the object in which it is hidden (it indicates the authenticity of the bill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7" name="fig11b" descr=""/>
          <p:cNvPicPr/>
          <p:nvPr/>
        </p:nvPicPr>
        <p:blipFill>
          <a:blip r:embed="rId1"/>
          <a:stretch/>
        </p:blipFill>
        <p:spPr>
          <a:xfrm>
            <a:off x="304920" y="4019400"/>
            <a:ext cx="4105080" cy="2324160"/>
          </a:xfrm>
          <a:prstGeom prst="rect">
            <a:avLst/>
          </a:prstGeom>
          <a:ln w="0">
            <a:noFill/>
          </a:ln>
        </p:spPr>
      </p:pic>
      <p:pic>
        <p:nvPicPr>
          <p:cNvPr id="58" name="FIG11c" descr=""/>
          <p:cNvPicPr/>
          <p:nvPr/>
        </p:nvPicPr>
        <p:blipFill>
          <a:blip r:embed="rId2"/>
          <a:stretch/>
        </p:blipFill>
        <p:spPr>
          <a:xfrm>
            <a:off x="4724280" y="4019400"/>
            <a:ext cx="41101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 digital watermark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4960" indent="-1749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digital watermark is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4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a message permanently embedded into data that can be detected or extracted later to make an assertion about the dat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4960" indent="-1749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watermark is hidden in the host data (cover work: image, video, audio, etc.) so that it is inseparable from the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4960" indent="-1749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can resist to many operations not degrading the host document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Arial"/>
              </a:rPr>
              <a:t>Watermarking operation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embed watermark in host data, embedding techniques apply minor modifications to the host data in a perceptually invisible mann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1360" indent="-1713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difications are related to the  watermark inform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1360" indent="-1713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watermark information can be  retrieved afterwards from the watermarked data by detecting the presence of these modifica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Embedding domain 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IMAGE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atial dom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quency (transformed) dom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brid techniqu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compressed domain: raw vide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ressed domain: MPE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60920" y="3138480"/>
            <a:ext cx="1117440" cy="119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08440" y="3736800"/>
            <a:ext cx="757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36520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65880" y="373680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27120" y="167652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575240"/>
            <a:ext cx="13716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575240"/>
            <a:ext cx="20574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4273560"/>
            <a:ext cx="137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n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52960" y="5489640"/>
            <a:ext cx="358560" cy="69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48320" y="5565600"/>
            <a:ext cx="65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480348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Watermark inser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47920" y="3146400"/>
            <a:ext cx="121896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81680" y="3203640"/>
            <a:ext cx="1219320" cy="1162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30920" y="3108240"/>
            <a:ext cx="56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67080" y="1378080"/>
            <a:ext cx="4864320" cy="4505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386000"/>
            <a:ext cx="4861080" cy="4502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Watermarked / Original Work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09:09:48Z</dcterms:created>
  <dc:creator>Roberto Caldelli</dc:creator>
  <dc:description>Presentazione watermarking</dc:description>
  <dc:language>en-US</dc:language>
  <cp:lastModifiedBy>Caldelli</cp:lastModifiedBy>
  <cp:lastPrinted>2002-05-09T20:46:34Z</cp:lastPrinted>
  <dcterms:modified xsi:type="dcterms:W3CDTF">2005-06-09T07:51:15Z</dcterms:modified>
  <cp:revision>250</cp:revision>
  <dc:subject/>
  <dc:title>brevettoCNR</dc:title>
</cp:coreProperties>
</file>