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projctor.wav" ContentType="audio/x-wav"/>
  <Override PartName="/ppt/media/image5.png" ContentType="image/png"/>
  <Override PartName="/ppt/media/image10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C52-A783-4169-9992-83F82B35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856-37A7-49D0-BAB0-5B1F855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DC0-6B10-4603-B529-B52B5EE1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B06-77C9-4663-AB89-3FC4E16B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C5D-2D2C-4302-BA3D-0FF3F918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6D8-ECD2-4D36-8A8C-882465B5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309-FCAC-4ADE-941E-32B20D9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3E9-C6D6-48B9-90CD-67B92F1E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E69-16D0-4A46-98AA-1ABD2FC5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8EE-51C7-4FED-B772-107BB299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2A0-A219-42F1-A24D-ADF6D67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CFA-CC67-416A-9CFB-EE217FBB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0426-36C1-454F-94FB-982918C1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image" Target="../media/image7.png"/><Relationship Id="rId10" Type="http://schemas.openxmlformats.org/officeDocument/2006/relationships/hyperlink" Target="http://www.eutelsat.it/" TargetMode="External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hyperlink" Target="file:///" TargetMode="External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hyperlink" Target="http://www.rai.it/" TargetMode="External"/><Relationship Id="rId18" Type="http://schemas.openxmlformats.org/officeDocument/2006/relationships/image" Target="../media/image14.png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5.wm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960" y="763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f9"/>
                </a:solidFill>
                <a:latin typeface="Arial"/>
              </a:rPr>
              <a:t>La S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43120" y="1114560"/>
            <a:ext cx="6672240" cy="4514760"/>
          </a:xfrm>
          <a:prstGeom prst="rect">
            <a:avLst/>
          </a:prstGeom>
          <a:solidFill>
            <a:srgbClr val="a4b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11320" y="1492200"/>
            <a:ext cx="6120000" cy="38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00160" y="1486080"/>
            <a:ext cx="61153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14560" y="1471680"/>
            <a:ext cx="6114960" cy="38289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1452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248520" y="6324480"/>
          <a:ext cx="25146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6324480"/>
                    <a:ext cx="2514600" cy="428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1981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19440" y="262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250040" y="4114800"/>
            <a:ext cx="1665360" cy="2514600"/>
            <a:chOff x="7250040" y="4114800"/>
            <a:chExt cx="1665360" cy="2514600"/>
          </a:xfrm>
        </p:grpSpPr>
        <p:sp>
          <p:nvSpPr>
            <p:cNvPr id="55" name=""/>
            <p:cNvSpPr/>
            <p:nvPr/>
          </p:nvSpPr>
          <p:spPr>
            <a:xfrm>
              <a:off x="7250040" y="4114800"/>
              <a:ext cx="1644840" cy="2514600"/>
            </a:xfrm>
            <a:custGeom>
              <a:avLst/>
              <a:gdLst>
                <a:gd name="textAreaLeft" fmla="*/ 80280 w 1644840"/>
                <a:gd name="textAreaRight" fmla="*/ 1564560 w 1644840"/>
                <a:gd name="textAreaTop" fmla="*/ 80280 h 2514600"/>
                <a:gd name="textAreaBottom" fmla="*/ 2434320 h 2514600"/>
              </a:gdLst>
              <a:ahLst/>
              <a:rect l="textAreaLeft" t="textAreaTop" r="textAreaRight" b="textAreaBottom"/>
              <a:pathLst>
                <a:path w="21600" h="33019">
                  <a:moveTo>
                    <a:pt x="3600" y="0"/>
                  </a:moveTo>
                  <a:arcTo wR="3600" hR="3600" stAng="16200000" swAng="-5400000"/>
                  <a:lnTo>
                    <a:pt x="0" y="29419"/>
                  </a:lnTo>
                  <a:arcTo wR="3600" hR="3600" stAng="10800000" swAng="-5400000"/>
                  <a:lnTo>
                    <a:pt x="18000" y="330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66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50040" y="4695840"/>
              <a:ext cx="16448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7250040" y="4405320"/>
            <a:ext cx="1644840" cy="217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50040" y="4405320"/>
                      <a:ext cx="1644840" cy="2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7443720" y="6195960"/>
              <a:ext cx="12574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250040" y="4888080"/>
              <a:ext cx="166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rso intensivo  di domotica      sui sistemi di automazione domestica.</a:t>
              </a: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533520" y="1600200"/>
            <a:ext cx="8305560" cy="81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utura Md BT"/>
              </a:rPr>
              <a:t>I corsi di formazione profess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utura Md BT"/>
              </a:rPr>
              <a:t>più famosi e frequentati d’Italia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905120" y="380880"/>
            <a:ext cx="5181480" cy="835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1447920" y="2819520"/>
            <a:ext cx="7010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importanti divisioni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per il successo dei tecnici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497560" y="4113360"/>
            <a:ext cx="1665360" cy="2516040"/>
            <a:chOff x="5497560" y="4113360"/>
            <a:chExt cx="1665360" cy="2516040"/>
          </a:xfrm>
        </p:grpSpPr>
        <p:sp>
          <p:nvSpPr>
            <p:cNvPr id="65" name=""/>
            <p:cNvSpPr/>
            <p:nvPr/>
          </p:nvSpPr>
          <p:spPr>
            <a:xfrm>
              <a:off x="5497560" y="4113360"/>
              <a:ext cx="1644480" cy="2516040"/>
            </a:xfrm>
            <a:custGeom>
              <a:avLst/>
              <a:gdLst>
                <a:gd name="textAreaLeft" fmla="*/ 80280 w 1644480"/>
                <a:gd name="textAreaRight" fmla="*/ 1564200 w 1644480"/>
                <a:gd name="textAreaTop" fmla="*/ 80280 h 2516040"/>
                <a:gd name="textAreaBottom" fmla="*/ 2435760 h 2516040"/>
              </a:gdLst>
              <a:ahLst/>
              <a:rect l="textAreaLeft" t="textAreaTop" r="textAreaRight" b="textAreaBottom"/>
              <a:pathLst>
                <a:path w="21600" h="33045">
                  <a:moveTo>
                    <a:pt x="3600" y="0"/>
                  </a:moveTo>
                  <a:arcTo wR="3600" hR="3600" stAng="16200000" swAng="-5400000"/>
                  <a:lnTo>
                    <a:pt x="0" y="29445"/>
                  </a:lnTo>
                  <a:arcTo wR="3600" hR="3600" stAng="10800000" swAng="-5400000"/>
                  <a:lnTo>
                    <a:pt x="18000" y="330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97560" y="4694400"/>
              <a:ext cx="164448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88080" y="6164280"/>
              <a:ext cx="106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Nina"/>
                </a:rPr>
                <a:t>BT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5497560" y="4389480"/>
              <a:ext cx="165888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497560" y="4800600"/>
              <a:ext cx="1665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Re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ablaggio struttur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Fibra ottica</a:t>
              </a: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5943600" y="5996160"/>
            <a:ext cx="838080" cy="17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43600" y="5996160"/>
                      <a:ext cx="83808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"/>
          <p:cNvGrpSpPr/>
          <p:nvPr/>
        </p:nvGrpSpPr>
        <p:grpSpPr>
          <a:xfrm>
            <a:off x="228600" y="4113360"/>
            <a:ext cx="1676520" cy="2516040"/>
            <a:chOff x="228600" y="4113360"/>
            <a:chExt cx="1676520" cy="2516040"/>
          </a:xfrm>
        </p:grpSpPr>
        <p:sp>
          <p:nvSpPr>
            <p:cNvPr id="73" name=""/>
            <p:cNvSpPr/>
            <p:nvPr/>
          </p:nvSpPr>
          <p:spPr>
            <a:xfrm>
              <a:off x="228600" y="4113360"/>
              <a:ext cx="1644480" cy="2516040"/>
            </a:xfrm>
            <a:custGeom>
              <a:avLst/>
              <a:gdLst>
                <a:gd name="textAreaLeft" fmla="*/ 80280 w 1644480"/>
                <a:gd name="textAreaRight" fmla="*/ 1564200 w 1644480"/>
                <a:gd name="textAreaTop" fmla="*/ 80280 h 2516040"/>
                <a:gd name="textAreaBottom" fmla="*/ 2435760 h 2516040"/>
              </a:gdLst>
              <a:ahLst/>
              <a:rect l="textAreaLeft" t="textAreaTop" r="textAreaRight" b="textAreaBottom"/>
              <a:pathLst>
                <a:path w="21600" h="33045">
                  <a:moveTo>
                    <a:pt x="3600" y="0"/>
                  </a:moveTo>
                  <a:arcTo wR="3600" hR="3600" stAng="16200000" swAng="-5400000"/>
                  <a:lnTo>
                    <a:pt x="0" y="29445"/>
                  </a:lnTo>
                  <a:arcTo wR="3600" hR="3600" stAng="10800000" swAng="-5400000"/>
                  <a:lnTo>
                    <a:pt x="18000" y="330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600" y="4694400"/>
              <a:ext cx="164448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9"/>
            <a:stretch/>
          </p:blipFill>
          <p:spPr>
            <a:xfrm>
              <a:off x="325440" y="4403880"/>
              <a:ext cx="145080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28600" y="4800600"/>
              <a:ext cx="16765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Ricezione e distribuzione dei segnali televisivi: terrestre e satellitare.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Eutelsat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19120" y="6172200"/>
              <a:ext cx="1160280" cy="35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1981080" y="4113360"/>
            <a:ext cx="1656000" cy="2516040"/>
            <a:chOff x="1981080" y="4113360"/>
            <a:chExt cx="1656000" cy="2516040"/>
          </a:xfrm>
        </p:grpSpPr>
        <p:sp>
          <p:nvSpPr>
            <p:cNvPr id="79" name=""/>
            <p:cNvSpPr/>
            <p:nvPr/>
          </p:nvSpPr>
          <p:spPr>
            <a:xfrm>
              <a:off x="1992240" y="4113360"/>
              <a:ext cx="1644840" cy="2516040"/>
            </a:xfrm>
            <a:custGeom>
              <a:avLst/>
              <a:gdLst>
                <a:gd name="textAreaLeft" fmla="*/ 80280 w 1644840"/>
                <a:gd name="textAreaRight" fmla="*/ 1564560 w 1644840"/>
                <a:gd name="textAreaTop" fmla="*/ 80280 h 2516040"/>
                <a:gd name="textAreaBottom" fmla="*/ 2435760 h 2516040"/>
              </a:gdLst>
              <a:ahLst/>
              <a:rect l="textAreaLeft" t="textAreaTop" r="textAreaRight" b="textAreaBottom"/>
              <a:pathLst>
                <a:path w="21600" h="33038">
                  <a:moveTo>
                    <a:pt x="3600" y="0"/>
                  </a:moveTo>
                  <a:arcTo wR="3600" hR="3600" stAng="16200000" swAng="-5400000"/>
                  <a:lnTo>
                    <a:pt x="0" y="29438"/>
                  </a:lnTo>
                  <a:arcTo wR="3600" hR="3600" stAng="10800000" swAng="-5400000"/>
                  <a:lnTo>
                    <a:pt x="18000" y="330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ccffff"/>
                </a:gs>
              </a:gsLst>
              <a:lin ang="5400000"/>
            </a:gra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92240" y="4694400"/>
              <a:ext cx="16448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2"/>
            <a:stretch/>
          </p:blipFill>
          <p:spPr>
            <a:xfrm>
              <a:off x="2089080" y="4403880"/>
              <a:ext cx="145116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ViaSat, Inc.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2282760" y="6242040"/>
              <a:ext cx="10638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981080" y="4724280"/>
              <a:ext cx="1600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istemi di comunicazione satellitari    bidirezionali                  a larga banda                (V-SAT).</a:t>
              </a:r>
              <a:r>
                <a:rPr b="1" lang="it-IT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5"/>
            <a:stretch/>
          </p:blipFill>
          <p:spPr>
            <a:xfrm>
              <a:off x="2438280" y="5943600"/>
              <a:ext cx="762120" cy="22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3745080" y="4113360"/>
            <a:ext cx="1665000" cy="2516040"/>
            <a:chOff x="3745080" y="4113360"/>
            <a:chExt cx="1665000" cy="2516040"/>
          </a:xfrm>
        </p:grpSpPr>
        <p:sp>
          <p:nvSpPr>
            <p:cNvPr id="86" name=""/>
            <p:cNvSpPr/>
            <p:nvPr/>
          </p:nvSpPr>
          <p:spPr>
            <a:xfrm>
              <a:off x="3745080" y="4113360"/>
              <a:ext cx="1644480" cy="2516040"/>
            </a:xfrm>
            <a:custGeom>
              <a:avLst/>
              <a:gdLst>
                <a:gd name="textAreaLeft" fmla="*/ 80280 w 1644480"/>
                <a:gd name="textAreaRight" fmla="*/ 1564200 w 1644480"/>
                <a:gd name="textAreaTop" fmla="*/ 80280 h 2516040"/>
                <a:gd name="textAreaBottom" fmla="*/ 2435760 h 2516040"/>
              </a:gdLst>
              <a:ahLst/>
              <a:rect l="textAreaLeft" t="textAreaTop" r="textAreaRight" b="textAreaBottom"/>
              <a:pathLst>
                <a:path w="21600" h="33045">
                  <a:moveTo>
                    <a:pt x="3600" y="0"/>
                  </a:moveTo>
                  <a:arcTo wR="3600" hR="3600" stAng="16200000" swAng="-5400000"/>
                  <a:lnTo>
                    <a:pt x="0" y="29445"/>
                  </a:lnTo>
                  <a:arcTo wR="3600" hR="3600" stAng="10800000" swAng="-5400000"/>
                  <a:lnTo>
                    <a:pt x="18000" y="330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5080" y="4694400"/>
              <a:ext cx="164448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5080" y="4724280"/>
              <a:ext cx="16650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Ricezione fissa per la distribuzione su impianti SMATV Ricezione mobile e portati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5080" y="4419720"/>
              <a:ext cx="755640" cy="17928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00720" y="4419720"/>
              <a:ext cx="898200" cy="17928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63800" y="4437000"/>
              <a:ext cx="1616400" cy="147600"/>
            </a:xfrm>
            <a:custGeom>
              <a:avLst/>
              <a:gdLst/>
              <a:ahLst/>
              <a:rect l="l" t="t" r="r" b="b"/>
              <a:pathLst>
                <a:path w="3874" h="355">
                  <a:moveTo>
                    <a:pt x="33" y="40"/>
                  </a:moveTo>
                  <a:lnTo>
                    <a:pt x="33" y="317"/>
                  </a:lnTo>
                  <a:lnTo>
                    <a:pt x="104" y="317"/>
                  </a:lnTo>
                  <a:lnTo>
                    <a:pt x="120" y="317"/>
                  </a:lnTo>
                  <a:lnTo>
                    <a:pt x="135" y="315"/>
                  </a:lnTo>
                  <a:lnTo>
                    <a:pt x="149" y="311"/>
                  </a:lnTo>
                  <a:lnTo>
                    <a:pt x="162" y="308"/>
                  </a:lnTo>
                  <a:lnTo>
                    <a:pt x="174" y="303"/>
                  </a:lnTo>
                  <a:lnTo>
                    <a:pt x="186" y="295"/>
                  </a:lnTo>
                  <a:lnTo>
                    <a:pt x="197" y="288"/>
                  </a:lnTo>
                  <a:lnTo>
                    <a:pt x="206" y="280"/>
                  </a:lnTo>
                  <a:lnTo>
                    <a:pt x="215" y="271"/>
                  </a:lnTo>
                  <a:lnTo>
                    <a:pt x="222" y="260"/>
                  </a:lnTo>
                  <a:lnTo>
                    <a:pt x="229" y="248"/>
                  </a:lnTo>
                  <a:lnTo>
                    <a:pt x="232" y="236"/>
                  </a:lnTo>
                  <a:lnTo>
                    <a:pt x="237" y="222"/>
                  </a:lnTo>
                  <a:lnTo>
                    <a:pt x="239" y="207"/>
                  </a:lnTo>
                  <a:lnTo>
                    <a:pt x="241" y="193"/>
                  </a:lnTo>
                  <a:lnTo>
                    <a:pt x="243" y="176"/>
                  </a:lnTo>
                  <a:lnTo>
                    <a:pt x="241" y="160"/>
                  </a:lnTo>
                  <a:lnTo>
                    <a:pt x="239" y="144"/>
                  </a:lnTo>
                  <a:lnTo>
                    <a:pt x="236" y="128"/>
                  </a:lnTo>
                  <a:lnTo>
                    <a:pt x="230" y="114"/>
                  </a:lnTo>
                  <a:lnTo>
                    <a:pt x="223" y="100"/>
                  </a:lnTo>
                  <a:lnTo>
                    <a:pt x="215" y="88"/>
                  </a:lnTo>
                  <a:lnTo>
                    <a:pt x="206" y="77"/>
                  </a:lnTo>
                  <a:lnTo>
                    <a:pt x="195" y="67"/>
                  </a:lnTo>
                  <a:lnTo>
                    <a:pt x="186" y="60"/>
                  </a:lnTo>
                  <a:lnTo>
                    <a:pt x="178" y="54"/>
                  </a:lnTo>
                  <a:lnTo>
                    <a:pt x="167" y="49"/>
                  </a:lnTo>
                  <a:lnTo>
                    <a:pt x="157" y="46"/>
                  </a:lnTo>
                  <a:lnTo>
                    <a:pt x="146" y="44"/>
                  </a:lnTo>
                  <a:lnTo>
                    <a:pt x="132" y="42"/>
                  </a:lnTo>
                  <a:lnTo>
                    <a:pt x="114" y="40"/>
                  </a:lnTo>
                  <a:lnTo>
                    <a:pt x="95" y="40"/>
                  </a:lnTo>
                  <a:lnTo>
                    <a:pt x="33" y="40"/>
                  </a:lnTo>
                  <a:close/>
                  <a:moveTo>
                    <a:pt x="0" y="7"/>
                  </a:moveTo>
                  <a:lnTo>
                    <a:pt x="99" y="7"/>
                  </a:lnTo>
                  <a:lnTo>
                    <a:pt x="118" y="9"/>
                  </a:lnTo>
                  <a:lnTo>
                    <a:pt x="135" y="9"/>
                  </a:lnTo>
                  <a:lnTo>
                    <a:pt x="151" y="12"/>
                  </a:lnTo>
                  <a:lnTo>
                    <a:pt x="167" y="16"/>
                  </a:lnTo>
                  <a:lnTo>
                    <a:pt x="179" y="19"/>
                  </a:lnTo>
                  <a:lnTo>
                    <a:pt x="193" y="26"/>
                  </a:lnTo>
                  <a:lnTo>
                    <a:pt x="204" y="33"/>
                  </a:lnTo>
                  <a:lnTo>
                    <a:pt x="216" y="40"/>
                  </a:lnTo>
                  <a:lnTo>
                    <a:pt x="230" y="54"/>
                  </a:lnTo>
                  <a:lnTo>
                    <a:pt x="243" y="68"/>
                  </a:lnTo>
                  <a:lnTo>
                    <a:pt x="253" y="84"/>
                  </a:lnTo>
                  <a:lnTo>
                    <a:pt x="262" y="102"/>
                  </a:lnTo>
                  <a:lnTo>
                    <a:pt x="269" y="119"/>
                  </a:lnTo>
                  <a:lnTo>
                    <a:pt x="274" y="139"/>
                  </a:lnTo>
                  <a:lnTo>
                    <a:pt x="278" y="158"/>
                  </a:lnTo>
                  <a:lnTo>
                    <a:pt x="278" y="178"/>
                  </a:lnTo>
                  <a:lnTo>
                    <a:pt x="278" y="199"/>
                  </a:lnTo>
                  <a:lnTo>
                    <a:pt x="274" y="220"/>
                  </a:lnTo>
                  <a:lnTo>
                    <a:pt x="269" y="241"/>
                  </a:lnTo>
                  <a:lnTo>
                    <a:pt x="260" y="260"/>
                  </a:lnTo>
                  <a:lnTo>
                    <a:pt x="250" y="278"/>
                  </a:lnTo>
                  <a:lnTo>
                    <a:pt x="239" y="294"/>
                  </a:lnTo>
                  <a:lnTo>
                    <a:pt x="225" y="308"/>
                  </a:lnTo>
                  <a:lnTo>
                    <a:pt x="209" y="320"/>
                  </a:lnTo>
                  <a:lnTo>
                    <a:pt x="199" y="327"/>
                  </a:lnTo>
                  <a:lnTo>
                    <a:pt x="186" y="334"/>
                  </a:lnTo>
                  <a:lnTo>
                    <a:pt x="174" y="338"/>
                  </a:lnTo>
                  <a:lnTo>
                    <a:pt x="162" y="343"/>
                  </a:lnTo>
                  <a:lnTo>
                    <a:pt x="148" y="345"/>
                  </a:lnTo>
                  <a:lnTo>
                    <a:pt x="128" y="347"/>
                  </a:lnTo>
                  <a:lnTo>
                    <a:pt x="107" y="348"/>
                  </a:lnTo>
                  <a:lnTo>
                    <a:pt x="83" y="348"/>
                  </a:lnTo>
                  <a:lnTo>
                    <a:pt x="0" y="348"/>
                  </a:lnTo>
                  <a:lnTo>
                    <a:pt x="0" y="7"/>
                  </a:lnTo>
                  <a:close/>
                  <a:moveTo>
                    <a:pt x="359" y="348"/>
                  </a:moveTo>
                  <a:lnTo>
                    <a:pt x="325" y="348"/>
                  </a:lnTo>
                  <a:lnTo>
                    <a:pt x="325" y="7"/>
                  </a:lnTo>
                  <a:lnTo>
                    <a:pt x="359" y="7"/>
                  </a:lnTo>
                  <a:lnTo>
                    <a:pt x="359" y="348"/>
                  </a:lnTo>
                  <a:close/>
                  <a:moveTo>
                    <a:pt x="545" y="185"/>
                  </a:moveTo>
                  <a:lnTo>
                    <a:pt x="759" y="185"/>
                  </a:lnTo>
                  <a:lnTo>
                    <a:pt x="758" y="204"/>
                  </a:lnTo>
                  <a:lnTo>
                    <a:pt x="754" y="222"/>
                  </a:lnTo>
                  <a:lnTo>
                    <a:pt x="751" y="237"/>
                  </a:lnTo>
                  <a:lnTo>
                    <a:pt x="744" y="253"/>
                  </a:lnTo>
                  <a:lnTo>
                    <a:pt x="737" y="267"/>
                  </a:lnTo>
                  <a:lnTo>
                    <a:pt x="728" y="281"/>
                  </a:lnTo>
                  <a:lnTo>
                    <a:pt x="717" y="295"/>
                  </a:lnTo>
                  <a:lnTo>
                    <a:pt x="705" y="308"/>
                  </a:lnTo>
                  <a:lnTo>
                    <a:pt x="693" y="318"/>
                  </a:lnTo>
                  <a:lnTo>
                    <a:pt x="679" y="329"/>
                  </a:lnTo>
                  <a:lnTo>
                    <a:pt x="664" y="338"/>
                  </a:lnTo>
                  <a:lnTo>
                    <a:pt x="649" y="343"/>
                  </a:lnTo>
                  <a:lnTo>
                    <a:pt x="633" y="348"/>
                  </a:lnTo>
                  <a:lnTo>
                    <a:pt x="617" y="352"/>
                  </a:lnTo>
                  <a:lnTo>
                    <a:pt x="599" y="355"/>
                  </a:lnTo>
                  <a:lnTo>
                    <a:pt x="582" y="355"/>
                  </a:lnTo>
                  <a:lnTo>
                    <a:pt x="564" y="355"/>
                  </a:lnTo>
                  <a:lnTo>
                    <a:pt x="547" y="352"/>
                  </a:lnTo>
                  <a:lnTo>
                    <a:pt x="529" y="348"/>
                  </a:lnTo>
                  <a:lnTo>
                    <a:pt x="513" y="343"/>
                  </a:lnTo>
                  <a:lnTo>
                    <a:pt x="498" y="336"/>
                  </a:lnTo>
                  <a:lnTo>
                    <a:pt x="483" y="327"/>
                  </a:lnTo>
                  <a:lnTo>
                    <a:pt x="469" y="317"/>
                  </a:lnTo>
                  <a:lnTo>
                    <a:pt x="457" y="304"/>
                  </a:lnTo>
                  <a:lnTo>
                    <a:pt x="445" y="290"/>
                  </a:lnTo>
                  <a:lnTo>
                    <a:pt x="434" y="276"/>
                  </a:lnTo>
                  <a:lnTo>
                    <a:pt x="425" y="262"/>
                  </a:lnTo>
                  <a:lnTo>
                    <a:pt x="418" y="246"/>
                  </a:lnTo>
                  <a:lnTo>
                    <a:pt x="413" y="230"/>
                  </a:lnTo>
                  <a:lnTo>
                    <a:pt x="410" y="213"/>
                  </a:lnTo>
                  <a:lnTo>
                    <a:pt x="406" y="195"/>
                  </a:lnTo>
                  <a:lnTo>
                    <a:pt x="406" y="176"/>
                  </a:lnTo>
                  <a:lnTo>
                    <a:pt x="406" y="158"/>
                  </a:lnTo>
                  <a:lnTo>
                    <a:pt x="410" y="141"/>
                  </a:lnTo>
                  <a:lnTo>
                    <a:pt x="413" y="125"/>
                  </a:lnTo>
                  <a:lnTo>
                    <a:pt x="420" y="107"/>
                  </a:lnTo>
                  <a:lnTo>
                    <a:pt x="427" y="93"/>
                  </a:lnTo>
                  <a:lnTo>
                    <a:pt x="436" y="77"/>
                  </a:lnTo>
                  <a:lnTo>
                    <a:pt x="447" y="63"/>
                  </a:lnTo>
                  <a:lnTo>
                    <a:pt x="461" y="51"/>
                  </a:lnTo>
                  <a:lnTo>
                    <a:pt x="473" y="38"/>
                  </a:lnTo>
                  <a:lnTo>
                    <a:pt x="487" y="28"/>
                  </a:lnTo>
                  <a:lnTo>
                    <a:pt x="501" y="19"/>
                  </a:lnTo>
                  <a:lnTo>
                    <a:pt x="517" y="12"/>
                  </a:lnTo>
                  <a:lnTo>
                    <a:pt x="533" y="7"/>
                  </a:lnTo>
                  <a:lnTo>
                    <a:pt x="550" y="3"/>
                  </a:lnTo>
                  <a:lnTo>
                    <a:pt x="568" y="1"/>
                  </a:lnTo>
                  <a:lnTo>
                    <a:pt x="585" y="0"/>
                  </a:lnTo>
                  <a:lnTo>
                    <a:pt x="610" y="1"/>
                  </a:lnTo>
                  <a:lnTo>
                    <a:pt x="635" y="7"/>
                  </a:lnTo>
                  <a:lnTo>
                    <a:pt x="656" y="14"/>
                  </a:lnTo>
                  <a:lnTo>
                    <a:pt x="677" y="24"/>
                  </a:lnTo>
                  <a:lnTo>
                    <a:pt x="696" y="38"/>
                  </a:lnTo>
                  <a:lnTo>
                    <a:pt x="714" y="54"/>
                  </a:lnTo>
                  <a:lnTo>
                    <a:pt x="728" y="72"/>
                  </a:lnTo>
                  <a:lnTo>
                    <a:pt x="742" y="93"/>
                  </a:lnTo>
                  <a:lnTo>
                    <a:pt x="700" y="93"/>
                  </a:lnTo>
                  <a:lnTo>
                    <a:pt x="687" y="79"/>
                  </a:lnTo>
                  <a:lnTo>
                    <a:pt x="673" y="67"/>
                  </a:lnTo>
                  <a:lnTo>
                    <a:pt x="661" y="56"/>
                  </a:lnTo>
                  <a:lnTo>
                    <a:pt x="647" y="47"/>
                  </a:lnTo>
                  <a:lnTo>
                    <a:pt x="633" y="42"/>
                  </a:lnTo>
                  <a:lnTo>
                    <a:pt x="617" y="37"/>
                  </a:lnTo>
                  <a:lnTo>
                    <a:pt x="601" y="35"/>
                  </a:lnTo>
                  <a:lnTo>
                    <a:pt x="584" y="33"/>
                  </a:lnTo>
                  <a:lnTo>
                    <a:pt x="570" y="33"/>
                  </a:lnTo>
                  <a:lnTo>
                    <a:pt x="556" y="35"/>
                  </a:lnTo>
                  <a:lnTo>
                    <a:pt x="541" y="38"/>
                  </a:lnTo>
                  <a:lnTo>
                    <a:pt x="529" y="44"/>
                  </a:lnTo>
                  <a:lnTo>
                    <a:pt x="517" y="49"/>
                  </a:lnTo>
                  <a:lnTo>
                    <a:pt x="505" y="56"/>
                  </a:lnTo>
                  <a:lnTo>
                    <a:pt x="494" y="65"/>
                  </a:lnTo>
                  <a:lnTo>
                    <a:pt x="483" y="75"/>
                  </a:lnTo>
                  <a:lnTo>
                    <a:pt x="473" y="86"/>
                  </a:lnTo>
                  <a:lnTo>
                    <a:pt x="466" y="97"/>
                  </a:lnTo>
                  <a:lnTo>
                    <a:pt x="457" y="109"/>
                  </a:lnTo>
                  <a:lnTo>
                    <a:pt x="452" y="121"/>
                  </a:lnTo>
                  <a:lnTo>
                    <a:pt x="448" y="135"/>
                  </a:lnTo>
                  <a:lnTo>
                    <a:pt x="445" y="148"/>
                  </a:lnTo>
                  <a:lnTo>
                    <a:pt x="443" y="162"/>
                  </a:lnTo>
                  <a:lnTo>
                    <a:pt x="441" y="176"/>
                  </a:lnTo>
                  <a:lnTo>
                    <a:pt x="443" y="192"/>
                  </a:lnTo>
                  <a:lnTo>
                    <a:pt x="445" y="207"/>
                  </a:lnTo>
                  <a:lnTo>
                    <a:pt x="448" y="222"/>
                  </a:lnTo>
                  <a:lnTo>
                    <a:pt x="452" y="234"/>
                  </a:lnTo>
                  <a:lnTo>
                    <a:pt x="457" y="246"/>
                  </a:lnTo>
                  <a:lnTo>
                    <a:pt x="464" y="259"/>
                  </a:lnTo>
                  <a:lnTo>
                    <a:pt x="473" y="271"/>
                  </a:lnTo>
                  <a:lnTo>
                    <a:pt x="483" y="281"/>
                  </a:lnTo>
                  <a:lnTo>
                    <a:pt x="494" y="292"/>
                  </a:lnTo>
                  <a:lnTo>
                    <a:pt x="505" y="299"/>
                  </a:lnTo>
                  <a:lnTo>
                    <a:pt x="517" y="306"/>
                  </a:lnTo>
                  <a:lnTo>
                    <a:pt x="529" y="313"/>
                  </a:lnTo>
                  <a:lnTo>
                    <a:pt x="541" y="317"/>
                  </a:lnTo>
                  <a:lnTo>
                    <a:pt x="556" y="320"/>
                  </a:lnTo>
                  <a:lnTo>
                    <a:pt x="570" y="322"/>
                  </a:lnTo>
                  <a:lnTo>
                    <a:pt x="585" y="324"/>
                  </a:lnTo>
                  <a:lnTo>
                    <a:pt x="596" y="324"/>
                  </a:lnTo>
                  <a:lnTo>
                    <a:pt x="608" y="322"/>
                  </a:lnTo>
                  <a:lnTo>
                    <a:pt x="619" y="318"/>
                  </a:lnTo>
                  <a:lnTo>
                    <a:pt x="629" y="317"/>
                  </a:lnTo>
                  <a:lnTo>
                    <a:pt x="640" y="311"/>
                  </a:lnTo>
                  <a:lnTo>
                    <a:pt x="650" y="306"/>
                  </a:lnTo>
                  <a:lnTo>
                    <a:pt x="661" y="301"/>
                  </a:lnTo>
                  <a:lnTo>
                    <a:pt x="670" y="294"/>
                  </a:lnTo>
                  <a:lnTo>
                    <a:pt x="679" y="285"/>
                  </a:lnTo>
                  <a:lnTo>
                    <a:pt x="687" y="278"/>
                  </a:lnTo>
                  <a:lnTo>
                    <a:pt x="694" y="269"/>
                  </a:lnTo>
                  <a:lnTo>
                    <a:pt x="701" y="259"/>
                  </a:lnTo>
                  <a:lnTo>
                    <a:pt x="707" y="250"/>
                  </a:lnTo>
                  <a:lnTo>
                    <a:pt x="712" y="239"/>
                  </a:lnTo>
                  <a:lnTo>
                    <a:pt x="715" y="227"/>
                  </a:lnTo>
                  <a:lnTo>
                    <a:pt x="719" y="216"/>
                  </a:lnTo>
                  <a:lnTo>
                    <a:pt x="545" y="216"/>
                  </a:lnTo>
                  <a:lnTo>
                    <a:pt x="545" y="185"/>
                  </a:lnTo>
                  <a:close/>
                  <a:moveTo>
                    <a:pt x="840" y="348"/>
                  </a:moveTo>
                  <a:lnTo>
                    <a:pt x="807" y="348"/>
                  </a:lnTo>
                  <a:lnTo>
                    <a:pt x="807" y="7"/>
                  </a:lnTo>
                  <a:lnTo>
                    <a:pt x="840" y="7"/>
                  </a:lnTo>
                  <a:lnTo>
                    <a:pt x="840" y="348"/>
                  </a:lnTo>
                  <a:close/>
                  <a:moveTo>
                    <a:pt x="979" y="348"/>
                  </a:moveTo>
                  <a:lnTo>
                    <a:pt x="946" y="348"/>
                  </a:lnTo>
                  <a:lnTo>
                    <a:pt x="946" y="40"/>
                  </a:lnTo>
                  <a:lnTo>
                    <a:pt x="875" y="40"/>
                  </a:lnTo>
                  <a:lnTo>
                    <a:pt x="875" y="7"/>
                  </a:lnTo>
                  <a:lnTo>
                    <a:pt x="1049" y="7"/>
                  </a:lnTo>
                  <a:lnTo>
                    <a:pt x="1049" y="40"/>
                  </a:lnTo>
                  <a:lnTo>
                    <a:pt x="979" y="40"/>
                  </a:lnTo>
                  <a:lnTo>
                    <a:pt x="979" y="348"/>
                  </a:lnTo>
                  <a:close/>
                  <a:moveTo>
                    <a:pt x="1058" y="348"/>
                  </a:moveTo>
                  <a:lnTo>
                    <a:pt x="1023" y="348"/>
                  </a:lnTo>
                  <a:lnTo>
                    <a:pt x="1157" y="7"/>
                  </a:lnTo>
                  <a:lnTo>
                    <a:pt x="1199" y="7"/>
                  </a:lnTo>
                  <a:lnTo>
                    <a:pt x="1332" y="348"/>
                  </a:lnTo>
                  <a:lnTo>
                    <a:pt x="1295" y="348"/>
                  </a:lnTo>
                  <a:lnTo>
                    <a:pt x="1255" y="241"/>
                  </a:lnTo>
                  <a:lnTo>
                    <a:pt x="1100" y="241"/>
                  </a:lnTo>
                  <a:lnTo>
                    <a:pt x="1058" y="348"/>
                  </a:lnTo>
                  <a:close/>
                  <a:moveTo>
                    <a:pt x="1243" y="211"/>
                  </a:moveTo>
                  <a:lnTo>
                    <a:pt x="1176" y="40"/>
                  </a:lnTo>
                  <a:lnTo>
                    <a:pt x="1113" y="211"/>
                  </a:lnTo>
                  <a:lnTo>
                    <a:pt x="1243" y="211"/>
                  </a:lnTo>
                  <a:close/>
                  <a:moveTo>
                    <a:pt x="1515" y="348"/>
                  </a:moveTo>
                  <a:lnTo>
                    <a:pt x="1359" y="348"/>
                  </a:lnTo>
                  <a:lnTo>
                    <a:pt x="1359" y="7"/>
                  </a:lnTo>
                  <a:lnTo>
                    <a:pt x="1392" y="7"/>
                  </a:lnTo>
                  <a:lnTo>
                    <a:pt x="1392" y="317"/>
                  </a:lnTo>
                  <a:lnTo>
                    <a:pt x="1515" y="317"/>
                  </a:lnTo>
                  <a:lnTo>
                    <a:pt x="1515" y="348"/>
                  </a:lnTo>
                  <a:close/>
                  <a:moveTo>
                    <a:pt x="1594" y="160"/>
                  </a:moveTo>
                  <a:lnTo>
                    <a:pt x="1740" y="160"/>
                  </a:lnTo>
                  <a:lnTo>
                    <a:pt x="1740" y="195"/>
                  </a:lnTo>
                  <a:lnTo>
                    <a:pt x="1594" y="195"/>
                  </a:lnTo>
                  <a:lnTo>
                    <a:pt x="1594" y="317"/>
                  </a:lnTo>
                  <a:lnTo>
                    <a:pt x="1740" y="317"/>
                  </a:lnTo>
                  <a:lnTo>
                    <a:pt x="1740" y="348"/>
                  </a:lnTo>
                  <a:lnTo>
                    <a:pt x="1559" y="348"/>
                  </a:lnTo>
                  <a:lnTo>
                    <a:pt x="1559" y="7"/>
                  </a:lnTo>
                  <a:lnTo>
                    <a:pt x="1740" y="7"/>
                  </a:lnTo>
                  <a:lnTo>
                    <a:pt x="1740" y="40"/>
                  </a:lnTo>
                  <a:lnTo>
                    <a:pt x="1594" y="40"/>
                  </a:lnTo>
                  <a:lnTo>
                    <a:pt x="1594" y="160"/>
                  </a:lnTo>
                  <a:close/>
                  <a:moveTo>
                    <a:pt x="1879" y="348"/>
                  </a:moveTo>
                  <a:lnTo>
                    <a:pt x="1844" y="348"/>
                  </a:lnTo>
                  <a:lnTo>
                    <a:pt x="1844" y="40"/>
                  </a:lnTo>
                  <a:lnTo>
                    <a:pt x="1775" y="40"/>
                  </a:lnTo>
                  <a:lnTo>
                    <a:pt x="1775" y="7"/>
                  </a:lnTo>
                  <a:lnTo>
                    <a:pt x="1948" y="7"/>
                  </a:lnTo>
                  <a:lnTo>
                    <a:pt x="1948" y="40"/>
                  </a:lnTo>
                  <a:lnTo>
                    <a:pt x="1879" y="40"/>
                  </a:lnTo>
                  <a:lnTo>
                    <a:pt x="1879" y="348"/>
                  </a:lnTo>
                  <a:close/>
                  <a:moveTo>
                    <a:pt x="2018" y="160"/>
                  </a:moveTo>
                  <a:lnTo>
                    <a:pt x="2164" y="160"/>
                  </a:lnTo>
                  <a:lnTo>
                    <a:pt x="2164" y="195"/>
                  </a:lnTo>
                  <a:lnTo>
                    <a:pt x="2018" y="195"/>
                  </a:lnTo>
                  <a:lnTo>
                    <a:pt x="2018" y="317"/>
                  </a:lnTo>
                  <a:lnTo>
                    <a:pt x="2164" y="317"/>
                  </a:lnTo>
                  <a:lnTo>
                    <a:pt x="2164" y="348"/>
                  </a:lnTo>
                  <a:lnTo>
                    <a:pt x="1983" y="348"/>
                  </a:lnTo>
                  <a:lnTo>
                    <a:pt x="1983" y="7"/>
                  </a:lnTo>
                  <a:lnTo>
                    <a:pt x="2164" y="7"/>
                  </a:lnTo>
                  <a:lnTo>
                    <a:pt x="2164" y="40"/>
                  </a:lnTo>
                  <a:lnTo>
                    <a:pt x="2018" y="40"/>
                  </a:lnTo>
                  <a:lnTo>
                    <a:pt x="2018" y="160"/>
                  </a:lnTo>
                  <a:close/>
                  <a:moveTo>
                    <a:pt x="2257" y="40"/>
                  </a:moveTo>
                  <a:lnTo>
                    <a:pt x="2257" y="348"/>
                  </a:lnTo>
                  <a:lnTo>
                    <a:pt x="2223" y="348"/>
                  </a:lnTo>
                  <a:lnTo>
                    <a:pt x="2223" y="7"/>
                  </a:lnTo>
                  <a:lnTo>
                    <a:pt x="2317" y="7"/>
                  </a:lnTo>
                  <a:lnTo>
                    <a:pt x="2345" y="9"/>
                  </a:lnTo>
                  <a:lnTo>
                    <a:pt x="2366" y="12"/>
                  </a:lnTo>
                  <a:lnTo>
                    <a:pt x="2383" y="17"/>
                  </a:lnTo>
                  <a:lnTo>
                    <a:pt x="2399" y="26"/>
                  </a:lnTo>
                  <a:lnTo>
                    <a:pt x="2410" y="35"/>
                  </a:lnTo>
                  <a:lnTo>
                    <a:pt x="2419" y="44"/>
                  </a:lnTo>
                  <a:lnTo>
                    <a:pt x="2426" y="54"/>
                  </a:lnTo>
                  <a:lnTo>
                    <a:pt x="2433" y="65"/>
                  </a:lnTo>
                  <a:lnTo>
                    <a:pt x="2438" y="77"/>
                  </a:lnTo>
                  <a:lnTo>
                    <a:pt x="2441" y="90"/>
                  </a:lnTo>
                  <a:lnTo>
                    <a:pt x="2443" y="104"/>
                  </a:lnTo>
                  <a:lnTo>
                    <a:pt x="2445" y="116"/>
                  </a:lnTo>
                  <a:lnTo>
                    <a:pt x="2443" y="135"/>
                  </a:lnTo>
                  <a:lnTo>
                    <a:pt x="2440" y="153"/>
                  </a:lnTo>
                  <a:lnTo>
                    <a:pt x="2431" y="169"/>
                  </a:lnTo>
                  <a:lnTo>
                    <a:pt x="2420" y="185"/>
                  </a:lnTo>
                  <a:lnTo>
                    <a:pt x="2408" y="197"/>
                  </a:lnTo>
                  <a:lnTo>
                    <a:pt x="2394" y="206"/>
                  </a:lnTo>
                  <a:lnTo>
                    <a:pt x="2387" y="209"/>
                  </a:lnTo>
                  <a:lnTo>
                    <a:pt x="2378" y="213"/>
                  </a:lnTo>
                  <a:lnTo>
                    <a:pt x="2369" y="215"/>
                  </a:lnTo>
                  <a:lnTo>
                    <a:pt x="2361" y="216"/>
                  </a:lnTo>
                  <a:lnTo>
                    <a:pt x="2445" y="348"/>
                  </a:lnTo>
                  <a:lnTo>
                    <a:pt x="2405" y="348"/>
                  </a:lnTo>
                  <a:lnTo>
                    <a:pt x="2301" y="185"/>
                  </a:lnTo>
                  <a:lnTo>
                    <a:pt x="2334" y="185"/>
                  </a:lnTo>
                  <a:lnTo>
                    <a:pt x="2350" y="183"/>
                  </a:lnTo>
                  <a:lnTo>
                    <a:pt x="2364" y="179"/>
                  </a:lnTo>
                  <a:lnTo>
                    <a:pt x="2376" y="174"/>
                  </a:lnTo>
                  <a:lnTo>
                    <a:pt x="2387" y="165"/>
                  </a:lnTo>
                  <a:lnTo>
                    <a:pt x="2397" y="155"/>
                  </a:lnTo>
                  <a:lnTo>
                    <a:pt x="2403" y="144"/>
                  </a:lnTo>
                  <a:lnTo>
                    <a:pt x="2406" y="130"/>
                  </a:lnTo>
                  <a:lnTo>
                    <a:pt x="2408" y="116"/>
                  </a:lnTo>
                  <a:lnTo>
                    <a:pt x="2406" y="98"/>
                  </a:lnTo>
                  <a:lnTo>
                    <a:pt x="2401" y="84"/>
                  </a:lnTo>
                  <a:lnTo>
                    <a:pt x="2394" y="70"/>
                  </a:lnTo>
                  <a:lnTo>
                    <a:pt x="2383" y="58"/>
                  </a:lnTo>
                  <a:lnTo>
                    <a:pt x="2371" y="51"/>
                  </a:lnTo>
                  <a:lnTo>
                    <a:pt x="2359" y="46"/>
                  </a:lnTo>
                  <a:lnTo>
                    <a:pt x="2338" y="42"/>
                  </a:lnTo>
                  <a:lnTo>
                    <a:pt x="2308" y="40"/>
                  </a:lnTo>
                  <a:lnTo>
                    <a:pt x="2257" y="40"/>
                  </a:lnTo>
                  <a:close/>
                  <a:moveTo>
                    <a:pt x="2528" y="40"/>
                  </a:moveTo>
                  <a:lnTo>
                    <a:pt x="2528" y="348"/>
                  </a:lnTo>
                  <a:lnTo>
                    <a:pt x="2494" y="348"/>
                  </a:lnTo>
                  <a:lnTo>
                    <a:pt x="2494" y="7"/>
                  </a:lnTo>
                  <a:lnTo>
                    <a:pt x="2587" y="7"/>
                  </a:lnTo>
                  <a:lnTo>
                    <a:pt x="2615" y="9"/>
                  </a:lnTo>
                  <a:lnTo>
                    <a:pt x="2638" y="12"/>
                  </a:lnTo>
                  <a:lnTo>
                    <a:pt x="2656" y="17"/>
                  </a:lnTo>
                  <a:lnTo>
                    <a:pt x="2672" y="26"/>
                  </a:lnTo>
                  <a:lnTo>
                    <a:pt x="2680" y="35"/>
                  </a:lnTo>
                  <a:lnTo>
                    <a:pt x="2689" y="44"/>
                  </a:lnTo>
                  <a:lnTo>
                    <a:pt x="2698" y="54"/>
                  </a:lnTo>
                  <a:lnTo>
                    <a:pt x="2703" y="65"/>
                  </a:lnTo>
                  <a:lnTo>
                    <a:pt x="2709" y="77"/>
                  </a:lnTo>
                  <a:lnTo>
                    <a:pt x="2714" y="90"/>
                  </a:lnTo>
                  <a:lnTo>
                    <a:pt x="2716" y="104"/>
                  </a:lnTo>
                  <a:lnTo>
                    <a:pt x="2716" y="116"/>
                  </a:lnTo>
                  <a:lnTo>
                    <a:pt x="2714" y="135"/>
                  </a:lnTo>
                  <a:lnTo>
                    <a:pt x="2710" y="153"/>
                  </a:lnTo>
                  <a:lnTo>
                    <a:pt x="2703" y="169"/>
                  </a:lnTo>
                  <a:lnTo>
                    <a:pt x="2693" y="185"/>
                  </a:lnTo>
                  <a:lnTo>
                    <a:pt x="2679" y="197"/>
                  </a:lnTo>
                  <a:lnTo>
                    <a:pt x="2665" y="206"/>
                  </a:lnTo>
                  <a:lnTo>
                    <a:pt x="2658" y="209"/>
                  </a:lnTo>
                  <a:lnTo>
                    <a:pt x="2649" y="213"/>
                  </a:lnTo>
                  <a:lnTo>
                    <a:pt x="2642" y="215"/>
                  </a:lnTo>
                  <a:lnTo>
                    <a:pt x="2633" y="216"/>
                  </a:lnTo>
                  <a:lnTo>
                    <a:pt x="2716" y="348"/>
                  </a:lnTo>
                  <a:lnTo>
                    <a:pt x="2675" y="348"/>
                  </a:lnTo>
                  <a:lnTo>
                    <a:pt x="2573" y="185"/>
                  </a:lnTo>
                  <a:lnTo>
                    <a:pt x="2605" y="185"/>
                  </a:lnTo>
                  <a:lnTo>
                    <a:pt x="2621" y="183"/>
                  </a:lnTo>
                  <a:lnTo>
                    <a:pt x="2635" y="179"/>
                  </a:lnTo>
                  <a:lnTo>
                    <a:pt x="2649" y="174"/>
                  </a:lnTo>
                  <a:lnTo>
                    <a:pt x="2659" y="165"/>
                  </a:lnTo>
                  <a:lnTo>
                    <a:pt x="2668" y="155"/>
                  </a:lnTo>
                  <a:lnTo>
                    <a:pt x="2675" y="144"/>
                  </a:lnTo>
                  <a:lnTo>
                    <a:pt x="2679" y="130"/>
                  </a:lnTo>
                  <a:lnTo>
                    <a:pt x="2680" y="116"/>
                  </a:lnTo>
                  <a:lnTo>
                    <a:pt x="2679" y="98"/>
                  </a:lnTo>
                  <a:lnTo>
                    <a:pt x="2673" y="84"/>
                  </a:lnTo>
                  <a:lnTo>
                    <a:pt x="2665" y="70"/>
                  </a:lnTo>
                  <a:lnTo>
                    <a:pt x="2654" y="58"/>
                  </a:lnTo>
                  <a:lnTo>
                    <a:pt x="2644" y="51"/>
                  </a:lnTo>
                  <a:lnTo>
                    <a:pt x="2630" y="46"/>
                  </a:lnTo>
                  <a:lnTo>
                    <a:pt x="2610" y="42"/>
                  </a:lnTo>
                  <a:lnTo>
                    <a:pt x="2579" y="40"/>
                  </a:lnTo>
                  <a:lnTo>
                    <a:pt x="2528" y="40"/>
                  </a:lnTo>
                  <a:close/>
                  <a:moveTo>
                    <a:pt x="2805" y="160"/>
                  </a:moveTo>
                  <a:lnTo>
                    <a:pt x="2951" y="160"/>
                  </a:lnTo>
                  <a:lnTo>
                    <a:pt x="2951" y="195"/>
                  </a:lnTo>
                  <a:lnTo>
                    <a:pt x="2805" y="195"/>
                  </a:lnTo>
                  <a:lnTo>
                    <a:pt x="2805" y="317"/>
                  </a:lnTo>
                  <a:lnTo>
                    <a:pt x="2951" y="317"/>
                  </a:lnTo>
                  <a:lnTo>
                    <a:pt x="2951" y="348"/>
                  </a:lnTo>
                  <a:lnTo>
                    <a:pt x="2770" y="348"/>
                  </a:lnTo>
                  <a:lnTo>
                    <a:pt x="2770" y="7"/>
                  </a:lnTo>
                  <a:lnTo>
                    <a:pt x="2951" y="7"/>
                  </a:lnTo>
                  <a:lnTo>
                    <a:pt x="2951" y="40"/>
                  </a:lnTo>
                  <a:lnTo>
                    <a:pt x="2805" y="40"/>
                  </a:lnTo>
                  <a:lnTo>
                    <a:pt x="2805" y="160"/>
                  </a:lnTo>
                  <a:close/>
                  <a:moveTo>
                    <a:pt x="2997" y="251"/>
                  </a:moveTo>
                  <a:lnTo>
                    <a:pt x="3030" y="251"/>
                  </a:lnTo>
                  <a:lnTo>
                    <a:pt x="3032" y="266"/>
                  </a:lnTo>
                  <a:lnTo>
                    <a:pt x="3036" y="280"/>
                  </a:lnTo>
                  <a:lnTo>
                    <a:pt x="3041" y="292"/>
                  </a:lnTo>
                  <a:lnTo>
                    <a:pt x="3050" y="301"/>
                  </a:lnTo>
                  <a:lnTo>
                    <a:pt x="3058" y="310"/>
                  </a:lnTo>
                  <a:lnTo>
                    <a:pt x="3069" y="317"/>
                  </a:lnTo>
                  <a:lnTo>
                    <a:pt x="3081" y="320"/>
                  </a:lnTo>
                  <a:lnTo>
                    <a:pt x="3094" y="320"/>
                  </a:lnTo>
                  <a:lnTo>
                    <a:pt x="3108" y="320"/>
                  </a:lnTo>
                  <a:lnTo>
                    <a:pt x="3122" y="317"/>
                  </a:lnTo>
                  <a:lnTo>
                    <a:pt x="3132" y="310"/>
                  </a:lnTo>
                  <a:lnTo>
                    <a:pt x="3143" y="303"/>
                  </a:lnTo>
                  <a:lnTo>
                    <a:pt x="3150" y="292"/>
                  </a:lnTo>
                  <a:lnTo>
                    <a:pt x="3155" y="280"/>
                  </a:lnTo>
                  <a:lnTo>
                    <a:pt x="3159" y="267"/>
                  </a:lnTo>
                  <a:lnTo>
                    <a:pt x="3160" y="251"/>
                  </a:lnTo>
                  <a:lnTo>
                    <a:pt x="3159" y="241"/>
                  </a:lnTo>
                  <a:lnTo>
                    <a:pt x="3155" y="230"/>
                  </a:lnTo>
                  <a:lnTo>
                    <a:pt x="3150" y="220"/>
                  </a:lnTo>
                  <a:lnTo>
                    <a:pt x="3141" y="211"/>
                  </a:lnTo>
                  <a:lnTo>
                    <a:pt x="3132" y="202"/>
                  </a:lnTo>
                  <a:lnTo>
                    <a:pt x="3118" y="195"/>
                  </a:lnTo>
                  <a:lnTo>
                    <a:pt x="3104" y="188"/>
                  </a:lnTo>
                  <a:lnTo>
                    <a:pt x="3086" y="181"/>
                  </a:lnTo>
                  <a:lnTo>
                    <a:pt x="3081" y="179"/>
                  </a:lnTo>
                  <a:lnTo>
                    <a:pt x="3078" y="179"/>
                  </a:lnTo>
                  <a:lnTo>
                    <a:pt x="3060" y="172"/>
                  </a:lnTo>
                  <a:lnTo>
                    <a:pt x="3046" y="163"/>
                  </a:lnTo>
                  <a:lnTo>
                    <a:pt x="3034" y="155"/>
                  </a:lnTo>
                  <a:lnTo>
                    <a:pt x="3023" y="146"/>
                  </a:lnTo>
                  <a:lnTo>
                    <a:pt x="3016" y="135"/>
                  </a:lnTo>
                  <a:lnTo>
                    <a:pt x="3011" y="123"/>
                  </a:lnTo>
                  <a:lnTo>
                    <a:pt x="3007" y="109"/>
                  </a:lnTo>
                  <a:lnTo>
                    <a:pt x="3007" y="95"/>
                  </a:lnTo>
                  <a:lnTo>
                    <a:pt x="3009" y="74"/>
                  </a:lnTo>
                  <a:lnTo>
                    <a:pt x="3013" y="56"/>
                  </a:lnTo>
                  <a:lnTo>
                    <a:pt x="3016" y="49"/>
                  </a:lnTo>
                  <a:lnTo>
                    <a:pt x="3021" y="40"/>
                  </a:lnTo>
                  <a:lnTo>
                    <a:pt x="3027" y="33"/>
                  </a:lnTo>
                  <a:lnTo>
                    <a:pt x="3032" y="26"/>
                  </a:lnTo>
                  <a:lnTo>
                    <a:pt x="3039" y="21"/>
                  </a:lnTo>
                  <a:lnTo>
                    <a:pt x="3046" y="16"/>
                  </a:lnTo>
                  <a:lnTo>
                    <a:pt x="3055" y="10"/>
                  </a:lnTo>
                  <a:lnTo>
                    <a:pt x="3062" y="7"/>
                  </a:lnTo>
                  <a:lnTo>
                    <a:pt x="3079" y="3"/>
                  </a:lnTo>
                  <a:lnTo>
                    <a:pt x="3099" y="1"/>
                  </a:lnTo>
                  <a:lnTo>
                    <a:pt x="3118" y="3"/>
                  </a:lnTo>
                  <a:lnTo>
                    <a:pt x="3134" y="7"/>
                  </a:lnTo>
                  <a:lnTo>
                    <a:pt x="3143" y="10"/>
                  </a:lnTo>
                  <a:lnTo>
                    <a:pt x="3150" y="14"/>
                  </a:lnTo>
                  <a:lnTo>
                    <a:pt x="3155" y="19"/>
                  </a:lnTo>
                  <a:lnTo>
                    <a:pt x="3162" y="24"/>
                  </a:lnTo>
                  <a:lnTo>
                    <a:pt x="3171" y="38"/>
                  </a:lnTo>
                  <a:lnTo>
                    <a:pt x="3180" y="53"/>
                  </a:lnTo>
                  <a:lnTo>
                    <a:pt x="3185" y="72"/>
                  </a:lnTo>
                  <a:lnTo>
                    <a:pt x="3187" y="91"/>
                  </a:lnTo>
                  <a:lnTo>
                    <a:pt x="3155" y="91"/>
                  </a:lnTo>
                  <a:lnTo>
                    <a:pt x="3153" y="79"/>
                  </a:lnTo>
                  <a:lnTo>
                    <a:pt x="3150" y="67"/>
                  </a:lnTo>
                  <a:lnTo>
                    <a:pt x="3144" y="56"/>
                  </a:lnTo>
                  <a:lnTo>
                    <a:pt x="3137" y="47"/>
                  </a:lnTo>
                  <a:lnTo>
                    <a:pt x="3130" y="42"/>
                  </a:lnTo>
                  <a:lnTo>
                    <a:pt x="3122" y="37"/>
                  </a:lnTo>
                  <a:lnTo>
                    <a:pt x="3111" y="35"/>
                  </a:lnTo>
                  <a:lnTo>
                    <a:pt x="3099" y="33"/>
                  </a:lnTo>
                  <a:lnTo>
                    <a:pt x="3086" y="35"/>
                  </a:lnTo>
                  <a:lnTo>
                    <a:pt x="3076" y="37"/>
                  </a:lnTo>
                  <a:lnTo>
                    <a:pt x="3065" y="42"/>
                  </a:lnTo>
                  <a:lnTo>
                    <a:pt x="3057" y="49"/>
                  </a:lnTo>
                  <a:lnTo>
                    <a:pt x="3050" y="58"/>
                  </a:lnTo>
                  <a:lnTo>
                    <a:pt x="3044" y="68"/>
                  </a:lnTo>
                  <a:lnTo>
                    <a:pt x="3043" y="79"/>
                  </a:lnTo>
                  <a:lnTo>
                    <a:pt x="3041" y="91"/>
                  </a:lnTo>
                  <a:lnTo>
                    <a:pt x="3043" y="104"/>
                  </a:lnTo>
                  <a:lnTo>
                    <a:pt x="3046" y="114"/>
                  </a:lnTo>
                  <a:lnTo>
                    <a:pt x="3053" y="125"/>
                  </a:lnTo>
                  <a:lnTo>
                    <a:pt x="3062" y="132"/>
                  </a:lnTo>
                  <a:lnTo>
                    <a:pt x="3078" y="141"/>
                  </a:lnTo>
                  <a:lnTo>
                    <a:pt x="3104" y="151"/>
                  </a:lnTo>
                  <a:lnTo>
                    <a:pt x="3120" y="155"/>
                  </a:lnTo>
                  <a:lnTo>
                    <a:pt x="3130" y="160"/>
                  </a:lnTo>
                  <a:lnTo>
                    <a:pt x="3146" y="167"/>
                  </a:lnTo>
                  <a:lnTo>
                    <a:pt x="3160" y="174"/>
                  </a:lnTo>
                  <a:lnTo>
                    <a:pt x="3171" y="183"/>
                  </a:lnTo>
                  <a:lnTo>
                    <a:pt x="3180" y="193"/>
                  </a:lnTo>
                  <a:lnTo>
                    <a:pt x="3185" y="204"/>
                  </a:lnTo>
                  <a:lnTo>
                    <a:pt x="3190" y="216"/>
                  </a:lnTo>
                  <a:lnTo>
                    <a:pt x="3194" y="230"/>
                  </a:lnTo>
                  <a:lnTo>
                    <a:pt x="3194" y="244"/>
                  </a:lnTo>
                  <a:lnTo>
                    <a:pt x="3194" y="257"/>
                  </a:lnTo>
                  <a:lnTo>
                    <a:pt x="3192" y="269"/>
                  </a:lnTo>
                  <a:lnTo>
                    <a:pt x="3190" y="280"/>
                  </a:lnTo>
                  <a:lnTo>
                    <a:pt x="3187" y="290"/>
                  </a:lnTo>
                  <a:lnTo>
                    <a:pt x="3183" y="301"/>
                  </a:lnTo>
                  <a:lnTo>
                    <a:pt x="3180" y="310"/>
                  </a:lnTo>
                  <a:lnTo>
                    <a:pt x="3173" y="317"/>
                  </a:lnTo>
                  <a:lnTo>
                    <a:pt x="3167" y="325"/>
                  </a:lnTo>
                  <a:lnTo>
                    <a:pt x="3160" y="332"/>
                  </a:lnTo>
                  <a:lnTo>
                    <a:pt x="3152" y="338"/>
                  </a:lnTo>
                  <a:lnTo>
                    <a:pt x="3144" y="343"/>
                  </a:lnTo>
                  <a:lnTo>
                    <a:pt x="3134" y="348"/>
                  </a:lnTo>
                  <a:lnTo>
                    <a:pt x="3125" y="352"/>
                  </a:lnTo>
                  <a:lnTo>
                    <a:pt x="3115" y="354"/>
                  </a:lnTo>
                  <a:lnTo>
                    <a:pt x="3104" y="355"/>
                  </a:lnTo>
                  <a:lnTo>
                    <a:pt x="3094" y="355"/>
                  </a:lnTo>
                  <a:lnTo>
                    <a:pt x="3083" y="355"/>
                  </a:lnTo>
                  <a:lnTo>
                    <a:pt x="3074" y="354"/>
                  </a:lnTo>
                  <a:lnTo>
                    <a:pt x="3064" y="352"/>
                  </a:lnTo>
                  <a:lnTo>
                    <a:pt x="3055" y="348"/>
                  </a:lnTo>
                  <a:lnTo>
                    <a:pt x="3046" y="345"/>
                  </a:lnTo>
                  <a:lnTo>
                    <a:pt x="3039" y="339"/>
                  </a:lnTo>
                  <a:lnTo>
                    <a:pt x="3032" y="334"/>
                  </a:lnTo>
                  <a:lnTo>
                    <a:pt x="3025" y="327"/>
                  </a:lnTo>
                  <a:lnTo>
                    <a:pt x="3018" y="320"/>
                  </a:lnTo>
                  <a:lnTo>
                    <a:pt x="3013" y="311"/>
                  </a:lnTo>
                  <a:lnTo>
                    <a:pt x="3009" y="303"/>
                  </a:lnTo>
                  <a:lnTo>
                    <a:pt x="3006" y="294"/>
                  </a:lnTo>
                  <a:lnTo>
                    <a:pt x="3000" y="274"/>
                  </a:lnTo>
                  <a:lnTo>
                    <a:pt x="2997" y="251"/>
                  </a:lnTo>
                  <a:close/>
                  <a:moveTo>
                    <a:pt x="3317" y="348"/>
                  </a:moveTo>
                  <a:lnTo>
                    <a:pt x="3283" y="348"/>
                  </a:lnTo>
                  <a:lnTo>
                    <a:pt x="3283" y="40"/>
                  </a:lnTo>
                  <a:lnTo>
                    <a:pt x="3213" y="40"/>
                  </a:lnTo>
                  <a:lnTo>
                    <a:pt x="3213" y="7"/>
                  </a:lnTo>
                  <a:lnTo>
                    <a:pt x="3387" y="7"/>
                  </a:lnTo>
                  <a:lnTo>
                    <a:pt x="3387" y="40"/>
                  </a:lnTo>
                  <a:lnTo>
                    <a:pt x="3317" y="40"/>
                  </a:lnTo>
                  <a:lnTo>
                    <a:pt x="3317" y="348"/>
                  </a:lnTo>
                  <a:close/>
                  <a:moveTo>
                    <a:pt x="3450" y="40"/>
                  </a:moveTo>
                  <a:lnTo>
                    <a:pt x="3450" y="348"/>
                  </a:lnTo>
                  <a:lnTo>
                    <a:pt x="3417" y="348"/>
                  </a:lnTo>
                  <a:lnTo>
                    <a:pt x="3417" y="7"/>
                  </a:lnTo>
                  <a:lnTo>
                    <a:pt x="3510" y="7"/>
                  </a:lnTo>
                  <a:lnTo>
                    <a:pt x="3538" y="9"/>
                  </a:lnTo>
                  <a:lnTo>
                    <a:pt x="3559" y="12"/>
                  </a:lnTo>
                  <a:lnTo>
                    <a:pt x="3577" y="17"/>
                  </a:lnTo>
                  <a:lnTo>
                    <a:pt x="3593" y="26"/>
                  </a:lnTo>
                  <a:lnTo>
                    <a:pt x="3603" y="35"/>
                  </a:lnTo>
                  <a:lnTo>
                    <a:pt x="3612" y="44"/>
                  </a:lnTo>
                  <a:lnTo>
                    <a:pt x="3619" y="54"/>
                  </a:lnTo>
                  <a:lnTo>
                    <a:pt x="3626" y="65"/>
                  </a:lnTo>
                  <a:lnTo>
                    <a:pt x="3631" y="77"/>
                  </a:lnTo>
                  <a:lnTo>
                    <a:pt x="3635" y="90"/>
                  </a:lnTo>
                  <a:lnTo>
                    <a:pt x="3637" y="104"/>
                  </a:lnTo>
                  <a:lnTo>
                    <a:pt x="3638" y="116"/>
                  </a:lnTo>
                  <a:lnTo>
                    <a:pt x="3637" y="135"/>
                  </a:lnTo>
                  <a:lnTo>
                    <a:pt x="3631" y="153"/>
                  </a:lnTo>
                  <a:lnTo>
                    <a:pt x="3624" y="169"/>
                  </a:lnTo>
                  <a:lnTo>
                    <a:pt x="3614" y="185"/>
                  </a:lnTo>
                  <a:lnTo>
                    <a:pt x="3601" y="197"/>
                  </a:lnTo>
                  <a:lnTo>
                    <a:pt x="3587" y="206"/>
                  </a:lnTo>
                  <a:lnTo>
                    <a:pt x="3580" y="209"/>
                  </a:lnTo>
                  <a:lnTo>
                    <a:pt x="3572" y="213"/>
                  </a:lnTo>
                  <a:lnTo>
                    <a:pt x="3563" y="215"/>
                  </a:lnTo>
                  <a:lnTo>
                    <a:pt x="3554" y="216"/>
                  </a:lnTo>
                  <a:lnTo>
                    <a:pt x="3638" y="348"/>
                  </a:lnTo>
                  <a:lnTo>
                    <a:pt x="3598" y="348"/>
                  </a:lnTo>
                  <a:lnTo>
                    <a:pt x="3494" y="185"/>
                  </a:lnTo>
                  <a:lnTo>
                    <a:pt x="3528" y="185"/>
                  </a:lnTo>
                  <a:lnTo>
                    <a:pt x="3543" y="183"/>
                  </a:lnTo>
                  <a:lnTo>
                    <a:pt x="3558" y="179"/>
                  </a:lnTo>
                  <a:lnTo>
                    <a:pt x="3570" y="174"/>
                  </a:lnTo>
                  <a:lnTo>
                    <a:pt x="3580" y="165"/>
                  </a:lnTo>
                  <a:lnTo>
                    <a:pt x="3591" y="155"/>
                  </a:lnTo>
                  <a:lnTo>
                    <a:pt x="3596" y="144"/>
                  </a:lnTo>
                  <a:lnTo>
                    <a:pt x="3600" y="130"/>
                  </a:lnTo>
                  <a:lnTo>
                    <a:pt x="3601" y="116"/>
                  </a:lnTo>
                  <a:lnTo>
                    <a:pt x="3600" y="98"/>
                  </a:lnTo>
                  <a:lnTo>
                    <a:pt x="3596" y="84"/>
                  </a:lnTo>
                  <a:lnTo>
                    <a:pt x="3587" y="70"/>
                  </a:lnTo>
                  <a:lnTo>
                    <a:pt x="3577" y="58"/>
                  </a:lnTo>
                  <a:lnTo>
                    <a:pt x="3565" y="51"/>
                  </a:lnTo>
                  <a:lnTo>
                    <a:pt x="3552" y="46"/>
                  </a:lnTo>
                  <a:lnTo>
                    <a:pt x="3531" y="42"/>
                  </a:lnTo>
                  <a:lnTo>
                    <a:pt x="3501" y="40"/>
                  </a:lnTo>
                  <a:lnTo>
                    <a:pt x="3450" y="40"/>
                  </a:lnTo>
                  <a:close/>
                  <a:moveTo>
                    <a:pt x="3728" y="160"/>
                  </a:moveTo>
                  <a:lnTo>
                    <a:pt x="3874" y="160"/>
                  </a:lnTo>
                  <a:lnTo>
                    <a:pt x="3874" y="195"/>
                  </a:lnTo>
                  <a:lnTo>
                    <a:pt x="3728" y="195"/>
                  </a:lnTo>
                  <a:lnTo>
                    <a:pt x="3728" y="317"/>
                  </a:lnTo>
                  <a:lnTo>
                    <a:pt x="3874" y="317"/>
                  </a:lnTo>
                  <a:lnTo>
                    <a:pt x="3874" y="348"/>
                  </a:lnTo>
                  <a:lnTo>
                    <a:pt x="3693" y="348"/>
                  </a:lnTo>
                  <a:lnTo>
                    <a:pt x="3693" y="7"/>
                  </a:lnTo>
                  <a:lnTo>
                    <a:pt x="3874" y="7"/>
                  </a:lnTo>
                  <a:lnTo>
                    <a:pt x="3874" y="40"/>
                  </a:lnTo>
                  <a:lnTo>
                    <a:pt x="3728" y="40"/>
                  </a:lnTo>
                  <a:lnTo>
                    <a:pt x="3728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logo della Fondazione Ugo Bordoni"/>
            <p:cNvPicPr/>
            <p:nvPr/>
          </p:nvPicPr>
          <p:blipFill>
            <a:blip r:embed="rId16"/>
            <a:stretch/>
          </p:blipFill>
          <p:spPr>
            <a:xfrm>
              <a:off x="3962520" y="6400800"/>
              <a:ext cx="1143000" cy="1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rai_logo" descr="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4114800" y="6005520"/>
              <a:ext cx="838080" cy="3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914400" y="2743200"/>
            <a:ext cx="914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66"/>
                </a:solidFill>
                <a:latin typeface="Cataneo BT"/>
              </a:rPr>
              <a:t>5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1268280"/>
            <a:ext cx="3816360" cy="40100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10040"/>
              <a:gd name="textAreaBottom" fmla="*/ 3823920 h 4010040"/>
            </a:gdLst>
            <a:ahLst/>
            <a:rect l="textAreaLeft" t="textAreaTop" r="textAreaRight" b="textAreaBottom"/>
            <a:pathLst>
              <a:path w="21600" h="22696">
                <a:moveTo>
                  <a:pt x="3600" y="0"/>
                </a:moveTo>
                <a:arcTo wR="3600" hR="3600" stAng="16200000" swAng="-5400000"/>
                <a:lnTo>
                  <a:pt x="0" y="19096"/>
                </a:lnTo>
                <a:arcTo wR="3600" hR="3600" stAng="10800000" swAng="-5400000"/>
                <a:lnTo>
                  <a:pt x="18000" y="2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093b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Formazioni completamente autofinanz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aboratori ed aule in oltre 2000 m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nsegnati e ricercatori in orga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entro accreditato presso la Reg.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e più importanti sinergie e partnership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UTELSAT, MEDIASET, RAI, LA7, DFRE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GTVi, BTICINO, SKY ITALI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765000"/>
            <a:ext cx="3816360" cy="40100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10040"/>
              <a:gd name="textAreaBottom" fmla="*/ 3823920 h 4010040"/>
            </a:gdLst>
            <a:ahLst/>
            <a:rect l="textAreaLeft" t="textAreaTop" r="textAreaRight" b="textAreaBottom"/>
            <a:pathLst>
              <a:path w="21600" h="22696">
                <a:moveTo>
                  <a:pt x="3600" y="0"/>
                </a:moveTo>
                <a:arcTo wR="3600" hR="3600" stAng="16200000" swAng="-5400000"/>
                <a:lnTo>
                  <a:pt x="0" y="19096"/>
                </a:lnTo>
                <a:arcTo wR="3600" hR="3600" stAng="10800000" swAng="-5400000"/>
                <a:lnTo>
                  <a:pt x="18000" y="2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fcf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16000" y="3284640"/>
            <a:ext cx="3207960" cy="360360"/>
            <a:chOff x="1116000" y="3284640"/>
            <a:chExt cx="3207960" cy="360360"/>
          </a:xfrm>
        </p:grpSpPr>
        <p:sp>
          <p:nvSpPr>
            <p:cNvPr id="111" name=""/>
            <p:cNvSpPr/>
            <p:nvPr/>
          </p:nvSpPr>
          <p:spPr>
            <a:xfrm>
              <a:off x="1116000" y="3284640"/>
              <a:ext cx="32079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6880" y="3302640"/>
              <a:ext cx="1445400" cy="32256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82640" y="3302640"/>
              <a:ext cx="1719000" cy="32256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73600" y="3332520"/>
              <a:ext cx="3092760" cy="267120"/>
            </a:xfrm>
            <a:custGeom>
              <a:avLst/>
              <a:gdLst/>
              <a:ahLst/>
              <a:rect l="l" t="t" r="r" b="b"/>
              <a:pathLst>
                <a:path w="3874" h="355">
                  <a:moveTo>
                    <a:pt x="33" y="40"/>
                  </a:moveTo>
                  <a:lnTo>
                    <a:pt x="33" y="317"/>
                  </a:lnTo>
                  <a:lnTo>
                    <a:pt x="104" y="317"/>
                  </a:lnTo>
                  <a:lnTo>
                    <a:pt x="120" y="317"/>
                  </a:lnTo>
                  <a:lnTo>
                    <a:pt x="135" y="315"/>
                  </a:lnTo>
                  <a:lnTo>
                    <a:pt x="149" y="311"/>
                  </a:lnTo>
                  <a:lnTo>
                    <a:pt x="162" y="308"/>
                  </a:lnTo>
                  <a:lnTo>
                    <a:pt x="174" y="303"/>
                  </a:lnTo>
                  <a:lnTo>
                    <a:pt x="186" y="295"/>
                  </a:lnTo>
                  <a:lnTo>
                    <a:pt x="197" y="288"/>
                  </a:lnTo>
                  <a:lnTo>
                    <a:pt x="206" y="280"/>
                  </a:lnTo>
                  <a:lnTo>
                    <a:pt x="215" y="271"/>
                  </a:lnTo>
                  <a:lnTo>
                    <a:pt x="222" y="260"/>
                  </a:lnTo>
                  <a:lnTo>
                    <a:pt x="229" y="248"/>
                  </a:lnTo>
                  <a:lnTo>
                    <a:pt x="232" y="236"/>
                  </a:lnTo>
                  <a:lnTo>
                    <a:pt x="237" y="222"/>
                  </a:lnTo>
                  <a:lnTo>
                    <a:pt x="239" y="207"/>
                  </a:lnTo>
                  <a:lnTo>
                    <a:pt x="241" y="193"/>
                  </a:lnTo>
                  <a:lnTo>
                    <a:pt x="243" y="176"/>
                  </a:lnTo>
                  <a:lnTo>
                    <a:pt x="241" y="160"/>
                  </a:lnTo>
                  <a:lnTo>
                    <a:pt x="239" y="144"/>
                  </a:lnTo>
                  <a:lnTo>
                    <a:pt x="236" y="128"/>
                  </a:lnTo>
                  <a:lnTo>
                    <a:pt x="230" y="114"/>
                  </a:lnTo>
                  <a:lnTo>
                    <a:pt x="223" y="100"/>
                  </a:lnTo>
                  <a:lnTo>
                    <a:pt x="215" y="88"/>
                  </a:lnTo>
                  <a:lnTo>
                    <a:pt x="206" y="77"/>
                  </a:lnTo>
                  <a:lnTo>
                    <a:pt x="195" y="67"/>
                  </a:lnTo>
                  <a:lnTo>
                    <a:pt x="186" y="60"/>
                  </a:lnTo>
                  <a:lnTo>
                    <a:pt x="178" y="54"/>
                  </a:lnTo>
                  <a:lnTo>
                    <a:pt x="167" y="49"/>
                  </a:lnTo>
                  <a:lnTo>
                    <a:pt x="157" y="46"/>
                  </a:lnTo>
                  <a:lnTo>
                    <a:pt x="146" y="44"/>
                  </a:lnTo>
                  <a:lnTo>
                    <a:pt x="132" y="42"/>
                  </a:lnTo>
                  <a:lnTo>
                    <a:pt x="114" y="40"/>
                  </a:lnTo>
                  <a:lnTo>
                    <a:pt x="95" y="40"/>
                  </a:lnTo>
                  <a:lnTo>
                    <a:pt x="33" y="40"/>
                  </a:lnTo>
                  <a:close/>
                  <a:moveTo>
                    <a:pt x="0" y="7"/>
                  </a:moveTo>
                  <a:lnTo>
                    <a:pt x="99" y="7"/>
                  </a:lnTo>
                  <a:lnTo>
                    <a:pt x="118" y="9"/>
                  </a:lnTo>
                  <a:lnTo>
                    <a:pt x="135" y="9"/>
                  </a:lnTo>
                  <a:lnTo>
                    <a:pt x="151" y="12"/>
                  </a:lnTo>
                  <a:lnTo>
                    <a:pt x="167" y="16"/>
                  </a:lnTo>
                  <a:lnTo>
                    <a:pt x="179" y="19"/>
                  </a:lnTo>
                  <a:lnTo>
                    <a:pt x="193" y="26"/>
                  </a:lnTo>
                  <a:lnTo>
                    <a:pt x="204" y="33"/>
                  </a:lnTo>
                  <a:lnTo>
                    <a:pt x="216" y="40"/>
                  </a:lnTo>
                  <a:lnTo>
                    <a:pt x="230" y="54"/>
                  </a:lnTo>
                  <a:lnTo>
                    <a:pt x="243" y="68"/>
                  </a:lnTo>
                  <a:lnTo>
                    <a:pt x="253" y="84"/>
                  </a:lnTo>
                  <a:lnTo>
                    <a:pt x="262" y="102"/>
                  </a:lnTo>
                  <a:lnTo>
                    <a:pt x="269" y="119"/>
                  </a:lnTo>
                  <a:lnTo>
                    <a:pt x="274" y="139"/>
                  </a:lnTo>
                  <a:lnTo>
                    <a:pt x="278" y="158"/>
                  </a:lnTo>
                  <a:lnTo>
                    <a:pt x="278" y="178"/>
                  </a:lnTo>
                  <a:lnTo>
                    <a:pt x="278" y="199"/>
                  </a:lnTo>
                  <a:lnTo>
                    <a:pt x="274" y="220"/>
                  </a:lnTo>
                  <a:lnTo>
                    <a:pt x="269" y="241"/>
                  </a:lnTo>
                  <a:lnTo>
                    <a:pt x="260" y="260"/>
                  </a:lnTo>
                  <a:lnTo>
                    <a:pt x="250" y="278"/>
                  </a:lnTo>
                  <a:lnTo>
                    <a:pt x="239" y="294"/>
                  </a:lnTo>
                  <a:lnTo>
                    <a:pt x="225" y="308"/>
                  </a:lnTo>
                  <a:lnTo>
                    <a:pt x="209" y="320"/>
                  </a:lnTo>
                  <a:lnTo>
                    <a:pt x="199" y="327"/>
                  </a:lnTo>
                  <a:lnTo>
                    <a:pt x="186" y="334"/>
                  </a:lnTo>
                  <a:lnTo>
                    <a:pt x="174" y="338"/>
                  </a:lnTo>
                  <a:lnTo>
                    <a:pt x="162" y="343"/>
                  </a:lnTo>
                  <a:lnTo>
                    <a:pt x="148" y="345"/>
                  </a:lnTo>
                  <a:lnTo>
                    <a:pt x="128" y="347"/>
                  </a:lnTo>
                  <a:lnTo>
                    <a:pt x="107" y="348"/>
                  </a:lnTo>
                  <a:lnTo>
                    <a:pt x="83" y="348"/>
                  </a:lnTo>
                  <a:lnTo>
                    <a:pt x="0" y="348"/>
                  </a:lnTo>
                  <a:lnTo>
                    <a:pt x="0" y="7"/>
                  </a:lnTo>
                  <a:close/>
                  <a:moveTo>
                    <a:pt x="359" y="348"/>
                  </a:moveTo>
                  <a:lnTo>
                    <a:pt x="325" y="348"/>
                  </a:lnTo>
                  <a:lnTo>
                    <a:pt x="325" y="7"/>
                  </a:lnTo>
                  <a:lnTo>
                    <a:pt x="359" y="7"/>
                  </a:lnTo>
                  <a:lnTo>
                    <a:pt x="359" y="348"/>
                  </a:lnTo>
                  <a:close/>
                  <a:moveTo>
                    <a:pt x="545" y="185"/>
                  </a:moveTo>
                  <a:lnTo>
                    <a:pt x="759" y="185"/>
                  </a:lnTo>
                  <a:lnTo>
                    <a:pt x="758" y="204"/>
                  </a:lnTo>
                  <a:lnTo>
                    <a:pt x="754" y="222"/>
                  </a:lnTo>
                  <a:lnTo>
                    <a:pt x="751" y="237"/>
                  </a:lnTo>
                  <a:lnTo>
                    <a:pt x="744" y="253"/>
                  </a:lnTo>
                  <a:lnTo>
                    <a:pt x="737" y="267"/>
                  </a:lnTo>
                  <a:lnTo>
                    <a:pt x="728" y="281"/>
                  </a:lnTo>
                  <a:lnTo>
                    <a:pt x="717" y="295"/>
                  </a:lnTo>
                  <a:lnTo>
                    <a:pt x="705" y="308"/>
                  </a:lnTo>
                  <a:lnTo>
                    <a:pt x="693" y="318"/>
                  </a:lnTo>
                  <a:lnTo>
                    <a:pt x="679" y="329"/>
                  </a:lnTo>
                  <a:lnTo>
                    <a:pt x="664" y="338"/>
                  </a:lnTo>
                  <a:lnTo>
                    <a:pt x="649" y="343"/>
                  </a:lnTo>
                  <a:lnTo>
                    <a:pt x="633" y="348"/>
                  </a:lnTo>
                  <a:lnTo>
                    <a:pt x="617" y="352"/>
                  </a:lnTo>
                  <a:lnTo>
                    <a:pt x="599" y="355"/>
                  </a:lnTo>
                  <a:lnTo>
                    <a:pt x="582" y="355"/>
                  </a:lnTo>
                  <a:lnTo>
                    <a:pt x="564" y="355"/>
                  </a:lnTo>
                  <a:lnTo>
                    <a:pt x="547" y="352"/>
                  </a:lnTo>
                  <a:lnTo>
                    <a:pt x="529" y="348"/>
                  </a:lnTo>
                  <a:lnTo>
                    <a:pt x="513" y="343"/>
                  </a:lnTo>
                  <a:lnTo>
                    <a:pt x="498" y="336"/>
                  </a:lnTo>
                  <a:lnTo>
                    <a:pt x="483" y="327"/>
                  </a:lnTo>
                  <a:lnTo>
                    <a:pt x="469" y="317"/>
                  </a:lnTo>
                  <a:lnTo>
                    <a:pt x="457" y="304"/>
                  </a:lnTo>
                  <a:lnTo>
                    <a:pt x="445" y="290"/>
                  </a:lnTo>
                  <a:lnTo>
                    <a:pt x="434" y="276"/>
                  </a:lnTo>
                  <a:lnTo>
                    <a:pt x="425" y="262"/>
                  </a:lnTo>
                  <a:lnTo>
                    <a:pt x="418" y="246"/>
                  </a:lnTo>
                  <a:lnTo>
                    <a:pt x="413" y="230"/>
                  </a:lnTo>
                  <a:lnTo>
                    <a:pt x="410" y="213"/>
                  </a:lnTo>
                  <a:lnTo>
                    <a:pt x="406" y="195"/>
                  </a:lnTo>
                  <a:lnTo>
                    <a:pt x="406" y="176"/>
                  </a:lnTo>
                  <a:lnTo>
                    <a:pt x="406" y="158"/>
                  </a:lnTo>
                  <a:lnTo>
                    <a:pt x="410" y="141"/>
                  </a:lnTo>
                  <a:lnTo>
                    <a:pt x="413" y="125"/>
                  </a:lnTo>
                  <a:lnTo>
                    <a:pt x="420" y="107"/>
                  </a:lnTo>
                  <a:lnTo>
                    <a:pt x="427" y="93"/>
                  </a:lnTo>
                  <a:lnTo>
                    <a:pt x="436" y="77"/>
                  </a:lnTo>
                  <a:lnTo>
                    <a:pt x="447" y="63"/>
                  </a:lnTo>
                  <a:lnTo>
                    <a:pt x="461" y="51"/>
                  </a:lnTo>
                  <a:lnTo>
                    <a:pt x="473" y="38"/>
                  </a:lnTo>
                  <a:lnTo>
                    <a:pt x="487" y="28"/>
                  </a:lnTo>
                  <a:lnTo>
                    <a:pt x="501" y="19"/>
                  </a:lnTo>
                  <a:lnTo>
                    <a:pt x="517" y="12"/>
                  </a:lnTo>
                  <a:lnTo>
                    <a:pt x="533" y="7"/>
                  </a:lnTo>
                  <a:lnTo>
                    <a:pt x="550" y="3"/>
                  </a:lnTo>
                  <a:lnTo>
                    <a:pt x="568" y="1"/>
                  </a:lnTo>
                  <a:lnTo>
                    <a:pt x="585" y="0"/>
                  </a:lnTo>
                  <a:lnTo>
                    <a:pt x="610" y="1"/>
                  </a:lnTo>
                  <a:lnTo>
                    <a:pt x="635" y="7"/>
                  </a:lnTo>
                  <a:lnTo>
                    <a:pt x="656" y="14"/>
                  </a:lnTo>
                  <a:lnTo>
                    <a:pt x="677" y="24"/>
                  </a:lnTo>
                  <a:lnTo>
                    <a:pt x="696" y="38"/>
                  </a:lnTo>
                  <a:lnTo>
                    <a:pt x="714" y="54"/>
                  </a:lnTo>
                  <a:lnTo>
                    <a:pt x="728" y="72"/>
                  </a:lnTo>
                  <a:lnTo>
                    <a:pt x="742" y="93"/>
                  </a:lnTo>
                  <a:lnTo>
                    <a:pt x="700" y="93"/>
                  </a:lnTo>
                  <a:lnTo>
                    <a:pt x="687" y="79"/>
                  </a:lnTo>
                  <a:lnTo>
                    <a:pt x="673" y="67"/>
                  </a:lnTo>
                  <a:lnTo>
                    <a:pt x="661" y="56"/>
                  </a:lnTo>
                  <a:lnTo>
                    <a:pt x="647" y="47"/>
                  </a:lnTo>
                  <a:lnTo>
                    <a:pt x="633" y="42"/>
                  </a:lnTo>
                  <a:lnTo>
                    <a:pt x="617" y="37"/>
                  </a:lnTo>
                  <a:lnTo>
                    <a:pt x="601" y="35"/>
                  </a:lnTo>
                  <a:lnTo>
                    <a:pt x="584" y="33"/>
                  </a:lnTo>
                  <a:lnTo>
                    <a:pt x="570" y="33"/>
                  </a:lnTo>
                  <a:lnTo>
                    <a:pt x="556" y="35"/>
                  </a:lnTo>
                  <a:lnTo>
                    <a:pt x="541" y="38"/>
                  </a:lnTo>
                  <a:lnTo>
                    <a:pt x="529" y="44"/>
                  </a:lnTo>
                  <a:lnTo>
                    <a:pt x="517" y="49"/>
                  </a:lnTo>
                  <a:lnTo>
                    <a:pt x="505" y="56"/>
                  </a:lnTo>
                  <a:lnTo>
                    <a:pt x="494" y="65"/>
                  </a:lnTo>
                  <a:lnTo>
                    <a:pt x="483" y="75"/>
                  </a:lnTo>
                  <a:lnTo>
                    <a:pt x="473" y="86"/>
                  </a:lnTo>
                  <a:lnTo>
                    <a:pt x="466" y="97"/>
                  </a:lnTo>
                  <a:lnTo>
                    <a:pt x="457" y="109"/>
                  </a:lnTo>
                  <a:lnTo>
                    <a:pt x="452" y="121"/>
                  </a:lnTo>
                  <a:lnTo>
                    <a:pt x="448" y="135"/>
                  </a:lnTo>
                  <a:lnTo>
                    <a:pt x="445" y="148"/>
                  </a:lnTo>
                  <a:lnTo>
                    <a:pt x="443" y="162"/>
                  </a:lnTo>
                  <a:lnTo>
                    <a:pt x="441" y="176"/>
                  </a:lnTo>
                  <a:lnTo>
                    <a:pt x="443" y="192"/>
                  </a:lnTo>
                  <a:lnTo>
                    <a:pt x="445" y="207"/>
                  </a:lnTo>
                  <a:lnTo>
                    <a:pt x="448" y="222"/>
                  </a:lnTo>
                  <a:lnTo>
                    <a:pt x="452" y="234"/>
                  </a:lnTo>
                  <a:lnTo>
                    <a:pt x="457" y="246"/>
                  </a:lnTo>
                  <a:lnTo>
                    <a:pt x="464" y="259"/>
                  </a:lnTo>
                  <a:lnTo>
                    <a:pt x="473" y="271"/>
                  </a:lnTo>
                  <a:lnTo>
                    <a:pt x="483" y="281"/>
                  </a:lnTo>
                  <a:lnTo>
                    <a:pt x="494" y="292"/>
                  </a:lnTo>
                  <a:lnTo>
                    <a:pt x="505" y="299"/>
                  </a:lnTo>
                  <a:lnTo>
                    <a:pt x="517" y="306"/>
                  </a:lnTo>
                  <a:lnTo>
                    <a:pt x="529" y="313"/>
                  </a:lnTo>
                  <a:lnTo>
                    <a:pt x="541" y="317"/>
                  </a:lnTo>
                  <a:lnTo>
                    <a:pt x="556" y="320"/>
                  </a:lnTo>
                  <a:lnTo>
                    <a:pt x="570" y="322"/>
                  </a:lnTo>
                  <a:lnTo>
                    <a:pt x="585" y="324"/>
                  </a:lnTo>
                  <a:lnTo>
                    <a:pt x="596" y="324"/>
                  </a:lnTo>
                  <a:lnTo>
                    <a:pt x="608" y="322"/>
                  </a:lnTo>
                  <a:lnTo>
                    <a:pt x="619" y="318"/>
                  </a:lnTo>
                  <a:lnTo>
                    <a:pt x="629" y="317"/>
                  </a:lnTo>
                  <a:lnTo>
                    <a:pt x="640" y="311"/>
                  </a:lnTo>
                  <a:lnTo>
                    <a:pt x="650" y="306"/>
                  </a:lnTo>
                  <a:lnTo>
                    <a:pt x="661" y="301"/>
                  </a:lnTo>
                  <a:lnTo>
                    <a:pt x="670" y="294"/>
                  </a:lnTo>
                  <a:lnTo>
                    <a:pt x="679" y="285"/>
                  </a:lnTo>
                  <a:lnTo>
                    <a:pt x="687" y="278"/>
                  </a:lnTo>
                  <a:lnTo>
                    <a:pt x="694" y="269"/>
                  </a:lnTo>
                  <a:lnTo>
                    <a:pt x="701" y="259"/>
                  </a:lnTo>
                  <a:lnTo>
                    <a:pt x="707" y="250"/>
                  </a:lnTo>
                  <a:lnTo>
                    <a:pt x="712" y="239"/>
                  </a:lnTo>
                  <a:lnTo>
                    <a:pt x="715" y="227"/>
                  </a:lnTo>
                  <a:lnTo>
                    <a:pt x="719" y="216"/>
                  </a:lnTo>
                  <a:lnTo>
                    <a:pt x="545" y="216"/>
                  </a:lnTo>
                  <a:lnTo>
                    <a:pt x="545" y="185"/>
                  </a:lnTo>
                  <a:close/>
                  <a:moveTo>
                    <a:pt x="840" y="348"/>
                  </a:moveTo>
                  <a:lnTo>
                    <a:pt x="807" y="348"/>
                  </a:lnTo>
                  <a:lnTo>
                    <a:pt x="807" y="7"/>
                  </a:lnTo>
                  <a:lnTo>
                    <a:pt x="840" y="7"/>
                  </a:lnTo>
                  <a:lnTo>
                    <a:pt x="840" y="348"/>
                  </a:lnTo>
                  <a:close/>
                  <a:moveTo>
                    <a:pt x="979" y="348"/>
                  </a:moveTo>
                  <a:lnTo>
                    <a:pt x="946" y="348"/>
                  </a:lnTo>
                  <a:lnTo>
                    <a:pt x="946" y="40"/>
                  </a:lnTo>
                  <a:lnTo>
                    <a:pt x="875" y="40"/>
                  </a:lnTo>
                  <a:lnTo>
                    <a:pt x="875" y="7"/>
                  </a:lnTo>
                  <a:lnTo>
                    <a:pt x="1049" y="7"/>
                  </a:lnTo>
                  <a:lnTo>
                    <a:pt x="1049" y="40"/>
                  </a:lnTo>
                  <a:lnTo>
                    <a:pt x="979" y="40"/>
                  </a:lnTo>
                  <a:lnTo>
                    <a:pt x="979" y="348"/>
                  </a:lnTo>
                  <a:close/>
                  <a:moveTo>
                    <a:pt x="1058" y="348"/>
                  </a:moveTo>
                  <a:lnTo>
                    <a:pt x="1023" y="348"/>
                  </a:lnTo>
                  <a:lnTo>
                    <a:pt x="1157" y="7"/>
                  </a:lnTo>
                  <a:lnTo>
                    <a:pt x="1199" y="7"/>
                  </a:lnTo>
                  <a:lnTo>
                    <a:pt x="1332" y="348"/>
                  </a:lnTo>
                  <a:lnTo>
                    <a:pt x="1295" y="348"/>
                  </a:lnTo>
                  <a:lnTo>
                    <a:pt x="1255" y="241"/>
                  </a:lnTo>
                  <a:lnTo>
                    <a:pt x="1100" y="241"/>
                  </a:lnTo>
                  <a:lnTo>
                    <a:pt x="1058" y="348"/>
                  </a:lnTo>
                  <a:close/>
                  <a:moveTo>
                    <a:pt x="1243" y="211"/>
                  </a:moveTo>
                  <a:lnTo>
                    <a:pt x="1176" y="40"/>
                  </a:lnTo>
                  <a:lnTo>
                    <a:pt x="1113" y="211"/>
                  </a:lnTo>
                  <a:lnTo>
                    <a:pt x="1243" y="211"/>
                  </a:lnTo>
                  <a:close/>
                  <a:moveTo>
                    <a:pt x="1515" y="348"/>
                  </a:moveTo>
                  <a:lnTo>
                    <a:pt x="1359" y="348"/>
                  </a:lnTo>
                  <a:lnTo>
                    <a:pt x="1359" y="7"/>
                  </a:lnTo>
                  <a:lnTo>
                    <a:pt x="1392" y="7"/>
                  </a:lnTo>
                  <a:lnTo>
                    <a:pt x="1392" y="317"/>
                  </a:lnTo>
                  <a:lnTo>
                    <a:pt x="1515" y="317"/>
                  </a:lnTo>
                  <a:lnTo>
                    <a:pt x="1515" y="348"/>
                  </a:lnTo>
                  <a:close/>
                  <a:moveTo>
                    <a:pt x="1594" y="160"/>
                  </a:moveTo>
                  <a:lnTo>
                    <a:pt x="1740" y="160"/>
                  </a:lnTo>
                  <a:lnTo>
                    <a:pt x="1740" y="195"/>
                  </a:lnTo>
                  <a:lnTo>
                    <a:pt x="1594" y="195"/>
                  </a:lnTo>
                  <a:lnTo>
                    <a:pt x="1594" y="317"/>
                  </a:lnTo>
                  <a:lnTo>
                    <a:pt x="1740" y="317"/>
                  </a:lnTo>
                  <a:lnTo>
                    <a:pt x="1740" y="348"/>
                  </a:lnTo>
                  <a:lnTo>
                    <a:pt x="1559" y="348"/>
                  </a:lnTo>
                  <a:lnTo>
                    <a:pt x="1559" y="7"/>
                  </a:lnTo>
                  <a:lnTo>
                    <a:pt x="1740" y="7"/>
                  </a:lnTo>
                  <a:lnTo>
                    <a:pt x="1740" y="40"/>
                  </a:lnTo>
                  <a:lnTo>
                    <a:pt x="1594" y="40"/>
                  </a:lnTo>
                  <a:lnTo>
                    <a:pt x="1594" y="160"/>
                  </a:lnTo>
                  <a:close/>
                  <a:moveTo>
                    <a:pt x="1879" y="348"/>
                  </a:moveTo>
                  <a:lnTo>
                    <a:pt x="1844" y="348"/>
                  </a:lnTo>
                  <a:lnTo>
                    <a:pt x="1844" y="40"/>
                  </a:lnTo>
                  <a:lnTo>
                    <a:pt x="1775" y="40"/>
                  </a:lnTo>
                  <a:lnTo>
                    <a:pt x="1775" y="7"/>
                  </a:lnTo>
                  <a:lnTo>
                    <a:pt x="1948" y="7"/>
                  </a:lnTo>
                  <a:lnTo>
                    <a:pt x="1948" y="40"/>
                  </a:lnTo>
                  <a:lnTo>
                    <a:pt x="1879" y="40"/>
                  </a:lnTo>
                  <a:lnTo>
                    <a:pt x="1879" y="348"/>
                  </a:lnTo>
                  <a:close/>
                  <a:moveTo>
                    <a:pt x="2018" y="160"/>
                  </a:moveTo>
                  <a:lnTo>
                    <a:pt x="2164" y="160"/>
                  </a:lnTo>
                  <a:lnTo>
                    <a:pt x="2164" y="195"/>
                  </a:lnTo>
                  <a:lnTo>
                    <a:pt x="2018" y="195"/>
                  </a:lnTo>
                  <a:lnTo>
                    <a:pt x="2018" y="317"/>
                  </a:lnTo>
                  <a:lnTo>
                    <a:pt x="2164" y="317"/>
                  </a:lnTo>
                  <a:lnTo>
                    <a:pt x="2164" y="348"/>
                  </a:lnTo>
                  <a:lnTo>
                    <a:pt x="1983" y="348"/>
                  </a:lnTo>
                  <a:lnTo>
                    <a:pt x="1983" y="7"/>
                  </a:lnTo>
                  <a:lnTo>
                    <a:pt x="2164" y="7"/>
                  </a:lnTo>
                  <a:lnTo>
                    <a:pt x="2164" y="40"/>
                  </a:lnTo>
                  <a:lnTo>
                    <a:pt x="2018" y="40"/>
                  </a:lnTo>
                  <a:lnTo>
                    <a:pt x="2018" y="160"/>
                  </a:lnTo>
                  <a:close/>
                  <a:moveTo>
                    <a:pt x="2257" y="40"/>
                  </a:moveTo>
                  <a:lnTo>
                    <a:pt x="2257" y="348"/>
                  </a:lnTo>
                  <a:lnTo>
                    <a:pt x="2223" y="348"/>
                  </a:lnTo>
                  <a:lnTo>
                    <a:pt x="2223" y="7"/>
                  </a:lnTo>
                  <a:lnTo>
                    <a:pt x="2317" y="7"/>
                  </a:lnTo>
                  <a:lnTo>
                    <a:pt x="2345" y="9"/>
                  </a:lnTo>
                  <a:lnTo>
                    <a:pt x="2366" y="12"/>
                  </a:lnTo>
                  <a:lnTo>
                    <a:pt x="2383" y="17"/>
                  </a:lnTo>
                  <a:lnTo>
                    <a:pt x="2399" y="26"/>
                  </a:lnTo>
                  <a:lnTo>
                    <a:pt x="2410" y="35"/>
                  </a:lnTo>
                  <a:lnTo>
                    <a:pt x="2419" y="44"/>
                  </a:lnTo>
                  <a:lnTo>
                    <a:pt x="2426" y="54"/>
                  </a:lnTo>
                  <a:lnTo>
                    <a:pt x="2433" y="65"/>
                  </a:lnTo>
                  <a:lnTo>
                    <a:pt x="2438" y="77"/>
                  </a:lnTo>
                  <a:lnTo>
                    <a:pt x="2441" y="90"/>
                  </a:lnTo>
                  <a:lnTo>
                    <a:pt x="2443" y="104"/>
                  </a:lnTo>
                  <a:lnTo>
                    <a:pt x="2445" y="116"/>
                  </a:lnTo>
                  <a:lnTo>
                    <a:pt x="2443" y="135"/>
                  </a:lnTo>
                  <a:lnTo>
                    <a:pt x="2440" y="153"/>
                  </a:lnTo>
                  <a:lnTo>
                    <a:pt x="2431" y="169"/>
                  </a:lnTo>
                  <a:lnTo>
                    <a:pt x="2420" y="185"/>
                  </a:lnTo>
                  <a:lnTo>
                    <a:pt x="2408" y="197"/>
                  </a:lnTo>
                  <a:lnTo>
                    <a:pt x="2394" y="206"/>
                  </a:lnTo>
                  <a:lnTo>
                    <a:pt x="2387" y="209"/>
                  </a:lnTo>
                  <a:lnTo>
                    <a:pt x="2378" y="213"/>
                  </a:lnTo>
                  <a:lnTo>
                    <a:pt x="2369" y="215"/>
                  </a:lnTo>
                  <a:lnTo>
                    <a:pt x="2361" y="216"/>
                  </a:lnTo>
                  <a:lnTo>
                    <a:pt x="2445" y="348"/>
                  </a:lnTo>
                  <a:lnTo>
                    <a:pt x="2405" y="348"/>
                  </a:lnTo>
                  <a:lnTo>
                    <a:pt x="2301" y="185"/>
                  </a:lnTo>
                  <a:lnTo>
                    <a:pt x="2334" y="185"/>
                  </a:lnTo>
                  <a:lnTo>
                    <a:pt x="2350" y="183"/>
                  </a:lnTo>
                  <a:lnTo>
                    <a:pt x="2364" y="179"/>
                  </a:lnTo>
                  <a:lnTo>
                    <a:pt x="2376" y="174"/>
                  </a:lnTo>
                  <a:lnTo>
                    <a:pt x="2387" y="165"/>
                  </a:lnTo>
                  <a:lnTo>
                    <a:pt x="2397" y="155"/>
                  </a:lnTo>
                  <a:lnTo>
                    <a:pt x="2403" y="144"/>
                  </a:lnTo>
                  <a:lnTo>
                    <a:pt x="2406" y="130"/>
                  </a:lnTo>
                  <a:lnTo>
                    <a:pt x="2408" y="116"/>
                  </a:lnTo>
                  <a:lnTo>
                    <a:pt x="2406" y="98"/>
                  </a:lnTo>
                  <a:lnTo>
                    <a:pt x="2401" y="84"/>
                  </a:lnTo>
                  <a:lnTo>
                    <a:pt x="2394" y="70"/>
                  </a:lnTo>
                  <a:lnTo>
                    <a:pt x="2383" y="58"/>
                  </a:lnTo>
                  <a:lnTo>
                    <a:pt x="2371" y="51"/>
                  </a:lnTo>
                  <a:lnTo>
                    <a:pt x="2359" y="46"/>
                  </a:lnTo>
                  <a:lnTo>
                    <a:pt x="2338" y="42"/>
                  </a:lnTo>
                  <a:lnTo>
                    <a:pt x="2308" y="40"/>
                  </a:lnTo>
                  <a:lnTo>
                    <a:pt x="2257" y="40"/>
                  </a:lnTo>
                  <a:close/>
                  <a:moveTo>
                    <a:pt x="2528" y="40"/>
                  </a:moveTo>
                  <a:lnTo>
                    <a:pt x="2528" y="348"/>
                  </a:lnTo>
                  <a:lnTo>
                    <a:pt x="2494" y="348"/>
                  </a:lnTo>
                  <a:lnTo>
                    <a:pt x="2494" y="7"/>
                  </a:lnTo>
                  <a:lnTo>
                    <a:pt x="2587" y="7"/>
                  </a:lnTo>
                  <a:lnTo>
                    <a:pt x="2615" y="9"/>
                  </a:lnTo>
                  <a:lnTo>
                    <a:pt x="2638" y="12"/>
                  </a:lnTo>
                  <a:lnTo>
                    <a:pt x="2656" y="17"/>
                  </a:lnTo>
                  <a:lnTo>
                    <a:pt x="2672" y="26"/>
                  </a:lnTo>
                  <a:lnTo>
                    <a:pt x="2680" y="35"/>
                  </a:lnTo>
                  <a:lnTo>
                    <a:pt x="2689" y="44"/>
                  </a:lnTo>
                  <a:lnTo>
                    <a:pt x="2698" y="54"/>
                  </a:lnTo>
                  <a:lnTo>
                    <a:pt x="2703" y="65"/>
                  </a:lnTo>
                  <a:lnTo>
                    <a:pt x="2709" y="77"/>
                  </a:lnTo>
                  <a:lnTo>
                    <a:pt x="2714" y="90"/>
                  </a:lnTo>
                  <a:lnTo>
                    <a:pt x="2716" y="104"/>
                  </a:lnTo>
                  <a:lnTo>
                    <a:pt x="2716" y="116"/>
                  </a:lnTo>
                  <a:lnTo>
                    <a:pt x="2714" y="135"/>
                  </a:lnTo>
                  <a:lnTo>
                    <a:pt x="2710" y="153"/>
                  </a:lnTo>
                  <a:lnTo>
                    <a:pt x="2703" y="169"/>
                  </a:lnTo>
                  <a:lnTo>
                    <a:pt x="2693" y="185"/>
                  </a:lnTo>
                  <a:lnTo>
                    <a:pt x="2679" y="197"/>
                  </a:lnTo>
                  <a:lnTo>
                    <a:pt x="2665" y="206"/>
                  </a:lnTo>
                  <a:lnTo>
                    <a:pt x="2658" y="209"/>
                  </a:lnTo>
                  <a:lnTo>
                    <a:pt x="2649" y="213"/>
                  </a:lnTo>
                  <a:lnTo>
                    <a:pt x="2642" y="215"/>
                  </a:lnTo>
                  <a:lnTo>
                    <a:pt x="2633" y="216"/>
                  </a:lnTo>
                  <a:lnTo>
                    <a:pt x="2716" y="348"/>
                  </a:lnTo>
                  <a:lnTo>
                    <a:pt x="2675" y="348"/>
                  </a:lnTo>
                  <a:lnTo>
                    <a:pt x="2573" y="185"/>
                  </a:lnTo>
                  <a:lnTo>
                    <a:pt x="2605" y="185"/>
                  </a:lnTo>
                  <a:lnTo>
                    <a:pt x="2621" y="183"/>
                  </a:lnTo>
                  <a:lnTo>
                    <a:pt x="2635" y="179"/>
                  </a:lnTo>
                  <a:lnTo>
                    <a:pt x="2649" y="174"/>
                  </a:lnTo>
                  <a:lnTo>
                    <a:pt x="2659" y="165"/>
                  </a:lnTo>
                  <a:lnTo>
                    <a:pt x="2668" y="155"/>
                  </a:lnTo>
                  <a:lnTo>
                    <a:pt x="2675" y="144"/>
                  </a:lnTo>
                  <a:lnTo>
                    <a:pt x="2679" y="130"/>
                  </a:lnTo>
                  <a:lnTo>
                    <a:pt x="2680" y="116"/>
                  </a:lnTo>
                  <a:lnTo>
                    <a:pt x="2679" y="98"/>
                  </a:lnTo>
                  <a:lnTo>
                    <a:pt x="2673" y="84"/>
                  </a:lnTo>
                  <a:lnTo>
                    <a:pt x="2665" y="70"/>
                  </a:lnTo>
                  <a:lnTo>
                    <a:pt x="2654" y="58"/>
                  </a:lnTo>
                  <a:lnTo>
                    <a:pt x="2644" y="51"/>
                  </a:lnTo>
                  <a:lnTo>
                    <a:pt x="2630" y="46"/>
                  </a:lnTo>
                  <a:lnTo>
                    <a:pt x="2610" y="42"/>
                  </a:lnTo>
                  <a:lnTo>
                    <a:pt x="2579" y="40"/>
                  </a:lnTo>
                  <a:lnTo>
                    <a:pt x="2528" y="40"/>
                  </a:lnTo>
                  <a:close/>
                  <a:moveTo>
                    <a:pt x="2805" y="160"/>
                  </a:moveTo>
                  <a:lnTo>
                    <a:pt x="2951" y="160"/>
                  </a:lnTo>
                  <a:lnTo>
                    <a:pt x="2951" y="195"/>
                  </a:lnTo>
                  <a:lnTo>
                    <a:pt x="2805" y="195"/>
                  </a:lnTo>
                  <a:lnTo>
                    <a:pt x="2805" y="317"/>
                  </a:lnTo>
                  <a:lnTo>
                    <a:pt x="2951" y="317"/>
                  </a:lnTo>
                  <a:lnTo>
                    <a:pt x="2951" y="348"/>
                  </a:lnTo>
                  <a:lnTo>
                    <a:pt x="2770" y="348"/>
                  </a:lnTo>
                  <a:lnTo>
                    <a:pt x="2770" y="7"/>
                  </a:lnTo>
                  <a:lnTo>
                    <a:pt x="2951" y="7"/>
                  </a:lnTo>
                  <a:lnTo>
                    <a:pt x="2951" y="40"/>
                  </a:lnTo>
                  <a:lnTo>
                    <a:pt x="2805" y="40"/>
                  </a:lnTo>
                  <a:lnTo>
                    <a:pt x="2805" y="160"/>
                  </a:lnTo>
                  <a:close/>
                  <a:moveTo>
                    <a:pt x="2997" y="251"/>
                  </a:moveTo>
                  <a:lnTo>
                    <a:pt x="3030" y="251"/>
                  </a:lnTo>
                  <a:lnTo>
                    <a:pt x="3032" y="266"/>
                  </a:lnTo>
                  <a:lnTo>
                    <a:pt x="3036" y="280"/>
                  </a:lnTo>
                  <a:lnTo>
                    <a:pt x="3041" y="292"/>
                  </a:lnTo>
                  <a:lnTo>
                    <a:pt x="3050" y="301"/>
                  </a:lnTo>
                  <a:lnTo>
                    <a:pt x="3058" y="310"/>
                  </a:lnTo>
                  <a:lnTo>
                    <a:pt x="3069" y="317"/>
                  </a:lnTo>
                  <a:lnTo>
                    <a:pt x="3081" y="320"/>
                  </a:lnTo>
                  <a:lnTo>
                    <a:pt x="3094" y="320"/>
                  </a:lnTo>
                  <a:lnTo>
                    <a:pt x="3108" y="320"/>
                  </a:lnTo>
                  <a:lnTo>
                    <a:pt x="3122" y="317"/>
                  </a:lnTo>
                  <a:lnTo>
                    <a:pt x="3132" y="310"/>
                  </a:lnTo>
                  <a:lnTo>
                    <a:pt x="3143" y="303"/>
                  </a:lnTo>
                  <a:lnTo>
                    <a:pt x="3150" y="292"/>
                  </a:lnTo>
                  <a:lnTo>
                    <a:pt x="3155" y="280"/>
                  </a:lnTo>
                  <a:lnTo>
                    <a:pt x="3159" y="267"/>
                  </a:lnTo>
                  <a:lnTo>
                    <a:pt x="3160" y="251"/>
                  </a:lnTo>
                  <a:lnTo>
                    <a:pt x="3159" y="241"/>
                  </a:lnTo>
                  <a:lnTo>
                    <a:pt x="3155" y="230"/>
                  </a:lnTo>
                  <a:lnTo>
                    <a:pt x="3150" y="220"/>
                  </a:lnTo>
                  <a:lnTo>
                    <a:pt x="3141" y="211"/>
                  </a:lnTo>
                  <a:lnTo>
                    <a:pt x="3132" y="202"/>
                  </a:lnTo>
                  <a:lnTo>
                    <a:pt x="3118" y="195"/>
                  </a:lnTo>
                  <a:lnTo>
                    <a:pt x="3104" y="188"/>
                  </a:lnTo>
                  <a:lnTo>
                    <a:pt x="3086" y="181"/>
                  </a:lnTo>
                  <a:lnTo>
                    <a:pt x="3081" y="179"/>
                  </a:lnTo>
                  <a:lnTo>
                    <a:pt x="3078" y="179"/>
                  </a:lnTo>
                  <a:lnTo>
                    <a:pt x="3060" y="172"/>
                  </a:lnTo>
                  <a:lnTo>
                    <a:pt x="3046" y="163"/>
                  </a:lnTo>
                  <a:lnTo>
                    <a:pt x="3034" y="155"/>
                  </a:lnTo>
                  <a:lnTo>
                    <a:pt x="3023" y="146"/>
                  </a:lnTo>
                  <a:lnTo>
                    <a:pt x="3016" y="135"/>
                  </a:lnTo>
                  <a:lnTo>
                    <a:pt x="3011" y="123"/>
                  </a:lnTo>
                  <a:lnTo>
                    <a:pt x="3007" y="109"/>
                  </a:lnTo>
                  <a:lnTo>
                    <a:pt x="3007" y="95"/>
                  </a:lnTo>
                  <a:lnTo>
                    <a:pt x="3009" y="74"/>
                  </a:lnTo>
                  <a:lnTo>
                    <a:pt x="3013" y="56"/>
                  </a:lnTo>
                  <a:lnTo>
                    <a:pt x="3016" y="49"/>
                  </a:lnTo>
                  <a:lnTo>
                    <a:pt x="3021" y="40"/>
                  </a:lnTo>
                  <a:lnTo>
                    <a:pt x="3027" y="33"/>
                  </a:lnTo>
                  <a:lnTo>
                    <a:pt x="3032" y="26"/>
                  </a:lnTo>
                  <a:lnTo>
                    <a:pt x="3039" y="21"/>
                  </a:lnTo>
                  <a:lnTo>
                    <a:pt x="3046" y="16"/>
                  </a:lnTo>
                  <a:lnTo>
                    <a:pt x="3055" y="10"/>
                  </a:lnTo>
                  <a:lnTo>
                    <a:pt x="3062" y="7"/>
                  </a:lnTo>
                  <a:lnTo>
                    <a:pt x="3079" y="3"/>
                  </a:lnTo>
                  <a:lnTo>
                    <a:pt x="3099" y="1"/>
                  </a:lnTo>
                  <a:lnTo>
                    <a:pt x="3118" y="3"/>
                  </a:lnTo>
                  <a:lnTo>
                    <a:pt x="3134" y="7"/>
                  </a:lnTo>
                  <a:lnTo>
                    <a:pt x="3143" y="10"/>
                  </a:lnTo>
                  <a:lnTo>
                    <a:pt x="3150" y="14"/>
                  </a:lnTo>
                  <a:lnTo>
                    <a:pt x="3155" y="19"/>
                  </a:lnTo>
                  <a:lnTo>
                    <a:pt x="3162" y="24"/>
                  </a:lnTo>
                  <a:lnTo>
                    <a:pt x="3171" y="38"/>
                  </a:lnTo>
                  <a:lnTo>
                    <a:pt x="3180" y="53"/>
                  </a:lnTo>
                  <a:lnTo>
                    <a:pt x="3185" y="72"/>
                  </a:lnTo>
                  <a:lnTo>
                    <a:pt x="3187" y="91"/>
                  </a:lnTo>
                  <a:lnTo>
                    <a:pt x="3155" y="91"/>
                  </a:lnTo>
                  <a:lnTo>
                    <a:pt x="3153" y="79"/>
                  </a:lnTo>
                  <a:lnTo>
                    <a:pt x="3150" y="67"/>
                  </a:lnTo>
                  <a:lnTo>
                    <a:pt x="3144" y="56"/>
                  </a:lnTo>
                  <a:lnTo>
                    <a:pt x="3137" y="47"/>
                  </a:lnTo>
                  <a:lnTo>
                    <a:pt x="3130" y="42"/>
                  </a:lnTo>
                  <a:lnTo>
                    <a:pt x="3122" y="37"/>
                  </a:lnTo>
                  <a:lnTo>
                    <a:pt x="3111" y="35"/>
                  </a:lnTo>
                  <a:lnTo>
                    <a:pt x="3099" y="33"/>
                  </a:lnTo>
                  <a:lnTo>
                    <a:pt x="3086" y="35"/>
                  </a:lnTo>
                  <a:lnTo>
                    <a:pt x="3076" y="37"/>
                  </a:lnTo>
                  <a:lnTo>
                    <a:pt x="3065" y="42"/>
                  </a:lnTo>
                  <a:lnTo>
                    <a:pt x="3057" y="49"/>
                  </a:lnTo>
                  <a:lnTo>
                    <a:pt x="3050" y="58"/>
                  </a:lnTo>
                  <a:lnTo>
                    <a:pt x="3044" y="68"/>
                  </a:lnTo>
                  <a:lnTo>
                    <a:pt x="3043" y="79"/>
                  </a:lnTo>
                  <a:lnTo>
                    <a:pt x="3041" y="91"/>
                  </a:lnTo>
                  <a:lnTo>
                    <a:pt x="3043" y="104"/>
                  </a:lnTo>
                  <a:lnTo>
                    <a:pt x="3046" y="114"/>
                  </a:lnTo>
                  <a:lnTo>
                    <a:pt x="3053" y="125"/>
                  </a:lnTo>
                  <a:lnTo>
                    <a:pt x="3062" y="132"/>
                  </a:lnTo>
                  <a:lnTo>
                    <a:pt x="3078" y="141"/>
                  </a:lnTo>
                  <a:lnTo>
                    <a:pt x="3104" y="151"/>
                  </a:lnTo>
                  <a:lnTo>
                    <a:pt x="3120" y="155"/>
                  </a:lnTo>
                  <a:lnTo>
                    <a:pt x="3130" y="160"/>
                  </a:lnTo>
                  <a:lnTo>
                    <a:pt x="3146" y="167"/>
                  </a:lnTo>
                  <a:lnTo>
                    <a:pt x="3160" y="174"/>
                  </a:lnTo>
                  <a:lnTo>
                    <a:pt x="3171" y="183"/>
                  </a:lnTo>
                  <a:lnTo>
                    <a:pt x="3180" y="193"/>
                  </a:lnTo>
                  <a:lnTo>
                    <a:pt x="3185" y="204"/>
                  </a:lnTo>
                  <a:lnTo>
                    <a:pt x="3190" y="216"/>
                  </a:lnTo>
                  <a:lnTo>
                    <a:pt x="3194" y="230"/>
                  </a:lnTo>
                  <a:lnTo>
                    <a:pt x="3194" y="244"/>
                  </a:lnTo>
                  <a:lnTo>
                    <a:pt x="3194" y="257"/>
                  </a:lnTo>
                  <a:lnTo>
                    <a:pt x="3192" y="269"/>
                  </a:lnTo>
                  <a:lnTo>
                    <a:pt x="3190" y="280"/>
                  </a:lnTo>
                  <a:lnTo>
                    <a:pt x="3187" y="290"/>
                  </a:lnTo>
                  <a:lnTo>
                    <a:pt x="3183" y="301"/>
                  </a:lnTo>
                  <a:lnTo>
                    <a:pt x="3180" y="310"/>
                  </a:lnTo>
                  <a:lnTo>
                    <a:pt x="3173" y="317"/>
                  </a:lnTo>
                  <a:lnTo>
                    <a:pt x="3167" y="325"/>
                  </a:lnTo>
                  <a:lnTo>
                    <a:pt x="3160" y="332"/>
                  </a:lnTo>
                  <a:lnTo>
                    <a:pt x="3152" y="338"/>
                  </a:lnTo>
                  <a:lnTo>
                    <a:pt x="3144" y="343"/>
                  </a:lnTo>
                  <a:lnTo>
                    <a:pt x="3134" y="348"/>
                  </a:lnTo>
                  <a:lnTo>
                    <a:pt x="3125" y="352"/>
                  </a:lnTo>
                  <a:lnTo>
                    <a:pt x="3115" y="354"/>
                  </a:lnTo>
                  <a:lnTo>
                    <a:pt x="3104" y="355"/>
                  </a:lnTo>
                  <a:lnTo>
                    <a:pt x="3094" y="355"/>
                  </a:lnTo>
                  <a:lnTo>
                    <a:pt x="3083" y="355"/>
                  </a:lnTo>
                  <a:lnTo>
                    <a:pt x="3074" y="354"/>
                  </a:lnTo>
                  <a:lnTo>
                    <a:pt x="3064" y="352"/>
                  </a:lnTo>
                  <a:lnTo>
                    <a:pt x="3055" y="348"/>
                  </a:lnTo>
                  <a:lnTo>
                    <a:pt x="3046" y="345"/>
                  </a:lnTo>
                  <a:lnTo>
                    <a:pt x="3039" y="339"/>
                  </a:lnTo>
                  <a:lnTo>
                    <a:pt x="3032" y="334"/>
                  </a:lnTo>
                  <a:lnTo>
                    <a:pt x="3025" y="327"/>
                  </a:lnTo>
                  <a:lnTo>
                    <a:pt x="3018" y="320"/>
                  </a:lnTo>
                  <a:lnTo>
                    <a:pt x="3013" y="311"/>
                  </a:lnTo>
                  <a:lnTo>
                    <a:pt x="3009" y="303"/>
                  </a:lnTo>
                  <a:lnTo>
                    <a:pt x="3006" y="294"/>
                  </a:lnTo>
                  <a:lnTo>
                    <a:pt x="3000" y="274"/>
                  </a:lnTo>
                  <a:lnTo>
                    <a:pt x="2997" y="251"/>
                  </a:lnTo>
                  <a:close/>
                  <a:moveTo>
                    <a:pt x="3317" y="348"/>
                  </a:moveTo>
                  <a:lnTo>
                    <a:pt x="3283" y="348"/>
                  </a:lnTo>
                  <a:lnTo>
                    <a:pt x="3283" y="40"/>
                  </a:lnTo>
                  <a:lnTo>
                    <a:pt x="3213" y="40"/>
                  </a:lnTo>
                  <a:lnTo>
                    <a:pt x="3213" y="7"/>
                  </a:lnTo>
                  <a:lnTo>
                    <a:pt x="3387" y="7"/>
                  </a:lnTo>
                  <a:lnTo>
                    <a:pt x="3387" y="40"/>
                  </a:lnTo>
                  <a:lnTo>
                    <a:pt x="3317" y="40"/>
                  </a:lnTo>
                  <a:lnTo>
                    <a:pt x="3317" y="348"/>
                  </a:lnTo>
                  <a:close/>
                  <a:moveTo>
                    <a:pt x="3450" y="40"/>
                  </a:moveTo>
                  <a:lnTo>
                    <a:pt x="3450" y="348"/>
                  </a:lnTo>
                  <a:lnTo>
                    <a:pt x="3417" y="348"/>
                  </a:lnTo>
                  <a:lnTo>
                    <a:pt x="3417" y="7"/>
                  </a:lnTo>
                  <a:lnTo>
                    <a:pt x="3510" y="7"/>
                  </a:lnTo>
                  <a:lnTo>
                    <a:pt x="3538" y="9"/>
                  </a:lnTo>
                  <a:lnTo>
                    <a:pt x="3559" y="12"/>
                  </a:lnTo>
                  <a:lnTo>
                    <a:pt x="3577" y="17"/>
                  </a:lnTo>
                  <a:lnTo>
                    <a:pt x="3593" y="26"/>
                  </a:lnTo>
                  <a:lnTo>
                    <a:pt x="3603" y="35"/>
                  </a:lnTo>
                  <a:lnTo>
                    <a:pt x="3612" y="44"/>
                  </a:lnTo>
                  <a:lnTo>
                    <a:pt x="3619" y="54"/>
                  </a:lnTo>
                  <a:lnTo>
                    <a:pt x="3626" y="65"/>
                  </a:lnTo>
                  <a:lnTo>
                    <a:pt x="3631" y="77"/>
                  </a:lnTo>
                  <a:lnTo>
                    <a:pt x="3635" y="90"/>
                  </a:lnTo>
                  <a:lnTo>
                    <a:pt x="3637" y="104"/>
                  </a:lnTo>
                  <a:lnTo>
                    <a:pt x="3638" y="116"/>
                  </a:lnTo>
                  <a:lnTo>
                    <a:pt x="3637" y="135"/>
                  </a:lnTo>
                  <a:lnTo>
                    <a:pt x="3631" y="153"/>
                  </a:lnTo>
                  <a:lnTo>
                    <a:pt x="3624" y="169"/>
                  </a:lnTo>
                  <a:lnTo>
                    <a:pt x="3614" y="185"/>
                  </a:lnTo>
                  <a:lnTo>
                    <a:pt x="3601" y="197"/>
                  </a:lnTo>
                  <a:lnTo>
                    <a:pt x="3587" y="206"/>
                  </a:lnTo>
                  <a:lnTo>
                    <a:pt x="3580" y="209"/>
                  </a:lnTo>
                  <a:lnTo>
                    <a:pt x="3572" y="213"/>
                  </a:lnTo>
                  <a:lnTo>
                    <a:pt x="3563" y="215"/>
                  </a:lnTo>
                  <a:lnTo>
                    <a:pt x="3554" y="216"/>
                  </a:lnTo>
                  <a:lnTo>
                    <a:pt x="3638" y="348"/>
                  </a:lnTo>
                  <a:lnTo>
                    <a:pt x="3598" y="348"/>
                  </a:lnTo>
                  <a:lnTo>
                    <a:pt x="3494" y="185"/>
                  </a:lnTo>
                  <a:lnTo>
                    <a:pt x="3528" y="185"/>
                  </a:lnTo>
                  <a:lnTo>
                    <a:pt x="3543" y="183"/>
                  </a:lnTo>
                  <a:lnTo>
                    <a:pt x="3558" y="179"/>
                  </a:lnTo>
                  <a:lnTo>
                    <a:pt x="3570" y="174"/>
                  </a:lnTo>
                  <a:lnTo>
                    <a:pt x="3580" y="165"/>
                  </a:lnTo>
                  <a:lnTo>
                    <a:pt x="3591" y="155"/>
                  </a:lnTo>
                  <a:lnTo>
                    <a:pt x="3596" y="144"/>
                  </a:lnTo>
                  <a:lnTo>
                    <a:pt x="3600" y="130"/>
                  </a:lnTo>
                  <a:lnTo>
                    <a:pt x="3601" y="116"/>
                  </a:lnTo>
                  <a:lnTo>
                    <a:pt x="3600" y="98"/>
                  </a:lnTo>
                  <a:lnTo>
                    <a:pt x="3596" y="84"/>
                  </a:lnTo>
                  <a:lnTo>
                    <a:pt x="3587" y="70"/>
                  </a:lnTo>
                  <a:lnTo>
                    <a:pt x="3577" y="58"/>
                  </a:lnTo>
                  <a:lnTo>
                    <a:pt x="3565" y="51"/>
                  </a:lnTo>
                  <a:lnTo>
                    <a:pt x="3552" y="46"/>
                  </a:lnTo>
                  <a:lnTo>
                    <a:pt x="3531" y="42"/>
                  </a:lnTo>
                  <a:lnTo>
                    <a:pt x="3501" y="40"/>
                  </a:lnTo>
                  <a:lnTo>
                    <a:pt x="3450" y="40"/>
                  </a:lnTo>
                  <a:close/>
                  <a:moveTo>
                    <a:pt x="3728" y="160"/>
                  </a:moveTo>
                  <a:lnTo>
                    <a:pt x="3874" y="160"/>
                  </a:lnTo>
                  <a:lnTo>
                    <a:pt x="3874" y="195"/>
                  </a:lnTo>
                  <a:lnTo>
                    <a:pt x="3728" y="195"/>
                  </a:lnTo>
                  <a:lnTo>
                    <a:pt x="3728" y="317"/>
                  </a:lnTo>
                  <a:lnTo>
                    <a:pt x="3874" y="317"/>
                  </a:lnTo>
                  <a:lnTo>
                    <a:pt x="3874" y="348"/>
                  </a:lnTo>
                  <a:lnTo>
                    <a:pt x="3693" y="348"/>
                  </a:lnTo>
                  <a:lnTo>
                    <a:pt x="3693" y="7"/>
                  </a:lnTo>
                  <a:lnTo>
                    <a:pt x="3874" y="7"/>
                  </a:lnTo>
                  <a:lnTo>
                    <a:pt x="3874" y="40"/>
                  </a:lnTo>
                  <a:lnTo>
                    <a:pt x="3728" y="40"/>
                  </a:lnTo>
                  <a:lnTo>
                    <a:pt x="3728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3456000" cy="595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83520" y="177336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l più importante centr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mazione professionale su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cnologie domest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iù avanzate ed innov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3168720" cy="3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3168720" cy="45072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22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60280"/>
            <a:ext cx="4032360" cy="2376720"/>
          </a:xfrm>
          <a:prstGeom prst="roundRect">
            <a:avLst>
              <a:gd name="adj" fmla="val 16667"/>
            </a:avLst>
          </a:prstGeom>
          <a:solidFill>
            <a:srgbClr val="dafcf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Oltre 1200 installatori hanno gi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frequentato il corso D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</a:rPr>
              <a:t>1200 tecnici in grado di rendere pi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</a:rPr>
              <a:t>semplice l’ingresso della nu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Arial"/>
              </a:rPr>
              <a:t>tecnologia televisiva che collaborano con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DGTVi  RAI  Mediaset  La7  D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39640" y="333360"/>
            <a:ext cx="3207960" cy="358920"/>
            <a:chOff x="539640" y="333360"/>
            <a:chExt cx="3207960" cy="358920"/>
          </a:xfrm>
        </p:grpSpPr>
        <p:sp>
          <p:nvSpPr>
            <p:cNvPr id="138" name=""/>
            <p:cNvSpPr/>
            <p:nvPr/>
          </p:nvSpPr>
          <p:spPr>
            <a:xfrm>
              <a:off x="539640" y="333360"/>
              <a:ext cx="320796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0520" y="351000"/>
              <a:ext cx="1445400" cy="32112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06280" y="351000"/>
              <a:ext cx="1719000" cy="32112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7240" y="380880"/>
              <a:ext cx="3092760" cy="266040"/>
            </a:xfrm>
            <a:custGeom>
              <a:avLst/>
              <a:gdLst/>
              <a:ahLst/>
              <a:rect l="l" t="t" r="r" b="b"/>
              <a:pathLst>
                <a:path w="3874" h="355">
                  <a:moveTo>
                    <a:pt x="33" y="40"/>
                  </a:moveTo>
                  <a:lnTo>
                    <a:pt x="33" y="317"/>
                  </a:lnTo>
                  <a:lnTo>
                    <a:pt x="104" y="317"/>
                  </a:lnTo>
                  <a:lnTo>
                    <a:pt x="120" y="317"/>
                  </a:lnTo>
                  <a:lnTo>
                    <a:pt x="135" y="315"/>
                  </a:lnTo>
                  <a:lnTo>
                    <a:pt x="149" y="311"/>
                  </a:lnTo>
                  <a:lnTo>
                    <a:pt x="162" y="308"/>
                  </a:lnTo>
                  <a:lnTo>
                    <a:pt x="174" y="303"/>
                  </a:lnTo>
                  <a:lnTo>
                    <a:pt x="186" y="295"/>
                  </a:lnTo>
                  <a:lnTo>
                    <a:pt x="197" y="288"/>
                  </a:lnTo>
                  <a:lnTo>
                    <a:pt x="206" y="280"/>
                  </a:lnTo>
                  <a:lnTo>
                    <a:pt x="215" y="271"/>
                  </a:lnTo>
                  <a:lnTo>
                    <a:pt x="222" y="260"/>
                  </a:lnTo>
                  <a:lnTo>
                    <a:pt x="229" y="248"/>
                  </a:lnTo>
                  <a:lnTo>
                    <a:pt x="232" y="236"/>
                  </a:lnTo>
                  <a:lnTo>
                    <a:pt x="237" y="222"/>
                  </a:lnTo>
                  <a:lnTo>
                    <a:pt x="239" y="207"/>
                  </a:lnTo>
                  <a:lnTo>
                    <a:pt x="241" y="193"/>
                  </a:lnTo>
                  <a:lnTo>
                    <a:pt x="243" y="176"/>
                  </a:lnTo>
                  <a:lnTo>
                    <a:pt x="241" y="160"/>
                  </a:lnTo>
                  <a:lnTo>
                    <a:pt x="239" y="144"/>
                  </a:lnTo>
                  <a:lnTo>
                    <a:pt x="236" y="128"/>
                  </a:lnTo>
                  <a:lnTo>
                    <a:pt x="230" y="114"/>
                  </a:lnTo>
                  <a:lnTo>
                    <a:pt x="223" y="100"/>
                  </a:lnTo>
                  <a:lnTo>
                    <a:pt x="215" y="88"/>
                  </a:lnTo>
                  <a:lnTo>
                    <a:pt x="206" y="77"/>
                  </a:lnTo>
                  <a:lnTo>
                    <a:pt x="195" y="67"/>
                  </a:lnTo>
                  <a:lnTo>
                    <a:pt x="186" y="60"/>
                  </a:lnTo>
                  <a:lnTo>
                    <a:pt x="178" y="54"/>
                  </a:lnTo>
                  <a:lnTo>
                    <a:pt x="167" y="49"/>
                  </a:lnTo>
                  <a:lnTo>
                    <a:pt x="157" y="46"/>
                  </a:lnTo>
                  <a:lnTo>
                    <a:pt x="146" y="44"/>
                  </a:lnTo>
                  <a:lnTo>
                    <a:pt x="132" y="42"/>
                  </a:lnTo>
                  <a:lnTo>
                    <a:pt x="114" y="40"/>
                  </a:lnTo>
                  <a:lnTo>
                    <a:pt x="95" y="40"/>
                  </a:lnTo>
                  <a:lnTo>
                    <a:pt x="33" y="40"/>
                  </a:lnTo>
                  <a:close/>
                  <a:moveTo>
                    <a:pt x="0" y="7"/>
                  </a:moveTo>
                  <a:lnTo>
                    <a:pt x="99" y="7"/>
                  </a:lnTo>
                  <a:lnTo>
                    <a:pt x="118" y="9"/>
                  </a:lnTo>
                  <a:lnTo>
                    <a:pt x="135" y="9"/>
                  </a:lnTo>
                  <a:lnTo>
                    <a:pt x="151" y="12"/>
                  </a:lnTo>
                  <a:lnTo>
                    <a:pt x="167" y="16"/>
                  </a:lnTo>
                  <a:lnTo>
                    <a:pt x="179" y="19"/>
                  </a:lnTo>
                  <a:lnTo>
                    <a:pt x="193" y="26"/>
                  </a:lnTo>
                  <a:lnTo>
                    <a:pt x="204" y="33"/>
                  </a:lnTo>
                  <a:lnTo>
                    <a:pt x="216" y="40"/>
                  </a:lnTo>
                  <a:lnTo>
                    <a:pt x="230" y="54"/>
                  </a:lnTo>
                  <a:lnTo>
                    <a:pt x="243" y="68"/>
                  </a:lnTo>
                  <a:lnTo>
                    <a:pt x="253" y="84"/>
                  </a:lnTo>
                  <a:lnTo>
                    <a:pt x="262" y="102"/>
                  </a:lnTo>
                  <a:lnTo>
                    <a:pt x="269" y="119"/>
                  </a:lnTo>
                  <a:lnTo>
                    <a:pt x="274" y="139"/>
                  </a:lnTo>
                  <a:lnTo>
                    <a:pt x="278" y="158"/>
                  </a:lnTo>
                  <a:lnTo>
                    <a:pt x="278" y="178"/>
                  </a:lnTo>
                  <a:lnTo>
                    <a:pt x="278" y="199"/>
                  </a:lnTo>
                  <a:lnTo>
                    <a:pt x="274" y="220"/>
                  </a:lnTo>
                  <a:lnTo>
                    <a:pt x="269" y="241"/>
                  </a:lnTo>
                  <a:lnTo>
                    <a:pt x="260" y="260"/>
                  </a:lnTo>
                  <a:lnTo>
                    <a:pt x="250" y="278"/>
                  </a:lnTo>
                  <a:lnTo>
                    <a:pt x="239" y="294"/>
                  </a:lnTo>
                  <a:lnTo>
                    <a:pt x="225" y="308"/>
                  </a:lnTo>
                  <a:lnTo>
                    <a:pt x="209" y="320"/>
                  </a:lnTo>
                  <a:lnTo>
                    <a:pt x="199" y="327"/>
                  </a:lnTo>
                  <a:lnTo>
                    <a:pt x="186" y="334"/>
                  </a:lnTo>
                  <a:lnTo>
                    <a:pt x="174" y="338"/>
                  </a:lnTo>
                  <a:lnTo>
                    <a:pt x="162" y="343"/>
                  </a:lnTo>
                  <a:lnTo>
                    <a:pt x="148" y="345"/>
                  </a:lnTo>
                  <a:lnTo>
                    <a:pt x="128" y="347"/>
                  </a:lnTo>
                  <a:lnTo>
                    <a:pt x="107" y="348"/>
                  </a:lnTo>
                  <a:lnTo>
                    <a:pt x="83" y="348"/>
                  </a:lnTo>
                  <a:lnTo>
                    <a:pt x="0" y="348"/>
                  </a:lnTo>
                  <a:lnTo>
                    <a:pt x="0" y="7"/>
                  </a:lnTo>
                  <a:close/>
                  <a:moveTo>
                    <a:pt x="359" y="348"/>
                  </a:moveTo>
                  <a:lnTo>
                    <a:pt x="325" y="348"/>
                  </a:lnTo>
                  <a:lnTo>
                    <a:pt x="325" y="7"/>
                  </a:lnTo>
                  <a:lnTo>
                    <a:pt x="359" y="7"/>
                  </a:lnTo>
                  <a:lnTo>
                    <a:pt x="359" y="348"/>
                  </a:lnTo>
                  <a:close/>
                  <a:moveTo>
                    <a:pt x="545" y="185"/>
                  </a:moveTo>
                  <a:lnTo>
                    <a:pt x="759" y="185"/>
                  </a:lnTo>
                  <a:lnTo>
                    <a:pt x="758" y="204"/>
                  </a:lnTo>
                  <a:lnTo>
                    <a:pt x="754" y="222"/>
                  </a:lnTo>
                  <a:lnTo>
                    <a:pt x="751" y="237"/>
                  </a:lnTo>
                  <a:lnTo>
                    <a:pt x="744" y="253"/>
                  </a:lnTo>
                  <a:lnTo>
                    <a:pt x="737" y="267"/>
                  </a:lnTo>
                  <a:lnTo>
                    <a:pt x="728" y="281"/>
                  </a:lnTo>
                  <a:lnTo>
                    <a:pt x="717" y="295"/>
                  </a:lnTo>
                  <a:lnTo>
                    <a:pt x="705" y="308"/>
                  </a:lnTo>
                  <a:lnTo>
                    <a:pt x="693" y="318"/>
                  </a:lnTo>
                  <a:lnTo>
                    <a:pt x="679" y="329"/>
                  </a:lnTo>
                  <a:lnTo>
                    <a:pt x="664" y="338"/>
                  </a:lnTo>
                  <a:lnTo>
                    <a:pt x="649" y="343"/>
                  </a:lnTo>
                  <a:lnTo>
                    <a:pt x="633" y="348"/>
                  </a:lnTo>
                  <a:lnTo>
                    <a:pt x="617" y="352"/>
                  </a:lnTo>
                  <a:lnTo>
                    <a:pt x="599" y="355"/>
                  </a:lnTo>
                  <a:lnTo>
                    <a:pt x="582" y="355"/>
                  </a:lnTo>
                  <a:lnTo>
                    <a:pt x="564" y="355"/>
                  </a:lnTo>
                  <a:lnTo>
                    <a:pt x="547" y="352"/>
                  </a:lnTo>
                  <a:lnTo>
                    <a:pt x="529" y="348"/>
                  </a:lnTo>
                  <a:lnTo>
                    <a:pt x="513" y="343"/>
                  </a:lnTo>
                  <a:lnTo>
                    <a:pt x="498" y="336"/>
                  </a:lnTo>
                  <a:lnTo>
                    <a:pt x="483" y="327"/>
                  </a:lnTo>
                  <a:lnTo>
                    <a:pt x="469" y="317"/>
                  </a:lnTo>
                  <a:lnTo>
                    <a:pt x="457" y="304"/>
                  </a:lnTo>
                  <a:lnTo>
                    <a:pt x="445" y="290"/>
                  </a:lnTo>
                  <a:lnTo>
                    <a:pt x="434" y="276"/>
                  </a:lnTo>
                  <a:lnTo>
                    <a:pt x="425" y="262"/>
                  </a:lnTo>
                  <a:lnTo>
                    <a:pt x="418" y="246"/>
                  </a:lnTo>
                  <a:lnTo>
                    <a:pt x="413" y="230"/>
                  </a:lnTo>
                  <a:lnTo>
                    <a:pt x="410" y="213"/>
                  </a:lnTo>
                  <a:lnTo>
                    <a:pt x="406" y="195"/>
                  </a:lnTo>
                  <a:lnTo>
                    <a:pt x="406" y="176"/>
                  </a:lnTo>
                  <a:lnTo>
                    <a:pt x="406" y="158"/>
                  </a:lnTo>
                  <a:lnTo>
                    <a:pt x="410" y="141"/>
                  </a:lnTo>
                  <a:lnTo>
                    <a:pt x="413" y="125"/>
                  </a:lnTo>
                  <a:lnTo>
                    <a:pt x="420" y="107"/>
                  </a:lnTo>
                  <a:lnTo>
                    <a:pt x="427" y="93"/>
                  </a:lnTo>
                  <a:lnTo>
                    <a:pt x="436" y="77"/>
                  </a:lnTo>
                  <a:lnTo>
                    <a:pt x="447" y="63"/>
                  </a:lnTo>
                  <a:lnTo>
                    <a:pt x="461" y="51"/>
                  </a:lnTo>
                  <a:lnTo>
                    <a:pt x="473" y="38"/>
                  </a:lnTo>
                  <a:lnTo>
                    <a:pt x="487" y="28"/>
                  </a:lnTo>
                  <a:lnTo>
                    <a:pt x="501" y="19"/>
                  </a:lnTo>
                  <a:lnTo>
                    <a:pt x="517" y="12"/>
                  </a:lnTo>
                  <a:lnTo>
                    <a:pt x="533" y="7"/>
                  </a:lnTo>
                  <a:lnTo>
                    <a:pt x="550" y="3"/>
                  </a:lnTo>
                  <a:lnTo>
                    <a:pt x="568" y="1"/>
                  </a:lnTo>
                  <a:lnTo>
                    <a:pt x="585" y="0"/>
                  </a:lnTo>
                  <a:lnTo>
                    <a:pt x="610" y="1"/>
                  </a:lnTo>
                  <a:lnTo>
                    <a:pt x="635" y="7"/>
                  </a:lnTo>
                  <a:lnTo>
                    <a:pt x="656" y="14"/>
                  </a:lnTo>
                  <a:lnTo>
                    <a:pt x="677" y="24"/>
                  </a:lnTo>
                  <a:lnTo>
                    <a:pt x="696" y="38"/>
                  </a:lnTo>
                  <a:lnTo>
                    <a:pt x="714" y="54"/>
                  </a:lnTo>
                  <a:lnTo>
                    <a:pt x="728" y="72"/>
                  </a:lnTo>
                  <a:lnTo>
                    <a:pt x="742" y="93"/>
                  </a:lnTo>
                  <a:lnTo>
                    <a:pt x="700" y="93"/>
                  </a:lnTo>
                  <a:lnTo>
                    <a:pt x="687" y="79"/>
                  </a:lnTo>
                  <a:lnTo>
                    <a:pt x="673" y="67"/>
                  </a:lnTo>
                  <a:lnTo>
                    <a:pt x="661" y="56"/>
                  </a:lnTo>
                  <a:lnTo>
                    <a:pt x="647" y="47"/>
                  </a:lnTo>
                  <a:lnTo>
                    <a:pt x="633" y="42"/>
                  </a:lnTo>
                  <a:lnTo>
                    <a:pt x="617" y="37"/>
                  </a:lnTo>
                  <a:lnTo>
                    <a:pt x="601" y="35"/>
                  </a:lnTo>
                  <a:lnTo>
                    <a:pt x="584" y="33"/>
                  </a:lnTo>
                  <a:lnTo>
                    <a:pt x="570" y="33"/>
                  </a:lnTo>
                  <a:lnTo>
                    <a:pt x="556" y="35"/>
                  </a:lnTo>
                  <a:lnTo>
                    <a:pt x="541" y="38"/>
                  </a:lnTo>
                  <a:lnTo>
                    <a:pt x="529" y="44"/>
                  </a:lnTo>
                  <a:lnTo>
                    <a:pt x="517" y="49"/>
                  </a:lnTo>
                  <a:lnTo>
                    <a:pt x="505" y="56"/>
                  </a:lnTo>
                  <a:lnTo>
                    <a:pt x="494" y="65"/>
                  </a:lnTo>
                  <a:lnTo>
                    <a:pt x="483" y="75"/>
                  </a:lnTo>
                  <a:lnTo>
                    <a:pt x="473" y="86"/>
                  </a:lnTo>
                  <a:lnTo>
                    <a:pt x="466" y="97"/>
                  </a:lnTo>
                  <a:lnTo>
                    <a:pt x="457" y="109"/>
                  </a:lnTo>
                  <a:lnTo>
                    <a:pt x="452" y="121"/>
                  </a:lnTo>
                  <a:lnTo>
                    <a:pt x="448" y="135"/>
                  </a:lnTo>
                  <a:lnTo>
                    <a:pt x="445" y="148"/>
                  </a:lnTo>
                  <a:lnTo>
                    <a:pt x="443" y="162"/>
                  </a:lnTo>
                  <a:lnTo>
                    <a:pt x="441" y="176"/>
                  </a:lnTo>
                  <a:lnTo>
                    <a:pt x="443" y="192"/>
                  </a:lnTo>
                  <a:lnTo>
                    <a:pt x="445" y="207"/>
                  </a:lnTo>
                  <a:lnTo>
                    <a:pt x="448" y="222"/>
                  </a:lnTo>
                  <a:lnTo>
                    <a:pt x="452" y="234"/>
                  </a:lnTo>
                  <a:lnTo>
                    <a:pt x="457" y="246"/>
                  </a:lnTo>
                  <a:lnTo>
                    <a:pt x="464" y="259"/>
                  </a:lnTo>
                  <a:lnTo>
                    <a:pt x="473" y="271"/>
                  </a:lnTo>
                  <a:lnTo>
                    <a:pt x="483" y="281"/>
                  </a:lnTo>
                  <a:lnTo>
                    <a:pt x="494" y="292"/>
                  </a:lnTo>
                  <a:lnTo>
                    <a:pt x="505" y="299"/>
                  </a:lnTo>
                  <a:lnTo>
                    <a:pt x="517" y="306"/>
                  </a:lnTo>
                  <a:lnTo>
                    <a:pt x="529" y="313"/>
                  </a:lnTo>
                  <a:lnTo>
                    <a:pt x="541" y="317"/>
                  </a:lnTo>
                  <a:lnTo>
                    <a:pt x="556" y="320"/>
                  </a:lnTo>
                  <a:lnTo>
                    <a:pt x="570" y="322"/>
                  </a:lnTo>
                  <a:lnTo>
                    <a:pt x="585" y="324"/>
                  </a:lnTo>
                  <a:lnTo>
                    <a:pt x="596" y="324"/>
                  </a:lnTo>
                  <a:lnTo>
                    <a:pt x="608" y="322"/>
                  </a:lnTo>
                  <a:lnTo>
                    <a:pt x="619" y="318"/>
                  </a:lnTo>
                  <a:lnTo>
                    <a:pt x="629" y="317"/>
                  </a:lnTo>
                  <a:lnTo>
                    <a:pt x="640" y="311"/>
                  </a:lnTo>
                  <a:lnTo>
                    <a:pt x="650" y="306"/>
                  </a:lnTo>
                  <a:lnTo>
                    <a:pt x="661" y="301"/>
                  </a:lnTo>
                  <a:lnTo>
                    <a:pt x="670" y="294"/>
                  </a:lnTo>
                  <a:lnTo>
                    <a:pt x="679" y="285"/>
                  </a:lnTo>
                  <a:lnTo>
                    <a:pt x="687" y="278"/>
                  </a:lnTo>
                  <a:lnTo>
                    <a:pt x="694" y="269"/>
                  </a:lnTo>
                  <a:lnTo>
                    <a:pt x="701" y="259"/>
                  </a:lnTo>
                  <a:lnTo>
                    <a:pt x="707" y="250"/>
                  </a:lnTo>
                  <a:lnTo>
                    <a:pt x="712" y="239"/>
                  </a:lnTo>
                  <a:lnTo>
                    <a:pt x="715" y="227"/>
                  </a:lnTo>
                  <a:lnTo>
                    <a:pt x="719" y="216"/>
                  </a:lnTo>
                  <a:lnTo>
                    <a:pt x="545" y="216"/>
                  </a:lnTo>
                  <a:lnTo>
                    <a:pt x="545" y="185"/>
                  </a:lnTo>
                  <a:close/>
                  <a:moveTo>
                    <a:pt x="840" y="348"/>
                  </a:moveTo>
                  <a:lnTo>
                    <a:pt x="807" y="348"/>
                  </a:lnTo>
                  <a:lnTo>
                    <a:pt x="807" y="7"/>
                  </a:lnTo>
                  <a:lnTo>
                    <a:pt x="840" y="7"/>
                  </a:lnTo>
                  <a:lnTo>
                    <a:pt x="840" y="348"/>
                  </a:lnTo>
                  <a:close/>
                  <a:moveTo>
                    <a:pt x="979" y="348"/>
                  </a:moveTo>
                  <a:lnTo>
                    <a:pt x="946" y="348"/>
                  </a:lnTo>
                  <a:lnTo>
                    <a:pt x="946" y="40"/>
                  </a:lnTo>
                  <a:lnTo>
                    <a:pt x="875" y="40"/>
                  </a:lnTo>
                  <a:lnTo>
                    <a:pt x="875" y="7"/>
                  </a:lnTo>
                  <a:lnTo>
                    <a:pt x="1049" y="7"/>
                  </a:lnTo>
                  <a:lnTo>
                    <a:pt x="1049" y="40"/>
                  </a:lnTo>
                  <a:lnTo>
                    <a:pt x="979" y="40"/>
                  </a:lnTo>
                  <a:lnTo>
                    <a:pt x="979" y="348"/>
                  </a:lnTo>
                  <a:close/>
                  <a:moveTo>
                    <a:pt x="1058" y="348"/>
                  </a:moveTo>
                  <a:lnTo>
                    <a:pt x="1023" y="348"/>
                  </a:lnTo>
                  <a:lnTo>
                    <a:pt x="1157" y="7"/>
                  </a:lnTo>
                  <a:lnTo>
                    <a:pt x="1199" y="7"/>
                  </a:lnTo>
                  <a:lnTo>
                    <a:pt x="1332" y="348"/>
                  </a:lnTo>
                  <a:lnTo>
                    <a:pt x="1295" y="348"/>
                  </a:lnTo>
                  <a:lnTo>
                    <a:pt x="1255" y="241"/>
                  </a:lnTo>
                  <a:lnTo>
                    <a:pt x="1100" y="241"/>
                  </a:lnTo>
                  <a:lnTo>
                    <a:pt x="1058" y="348"/>
                  </a:lnTo>
                  <a:close/>
                  <a:moveTo>
                    <a:pt x="1243" y="211"/>
                  </a:moveTo>
                  <a:lnTo>
                    <a:pt x="1176" y="40"/>
                  </a:lnTo>
                  <a:lnTo>
                    <a:pt x="1113" y="211"/>
                  </a:lnTo>
                  <a:lnTo>
                    <a:pt x="1243" y="211"/>
                  </a:lnTo>
                  <a:close/>
                  <a:moveTo>
                    <a:pt x="1515" y="348"/>
                  </a:moveTo>
                  <a:lnTo>
                    <a:pt x="1359" y="348"/>
                  </a:lnTo>
                  <a:lnTo>
                    <a:pt x="1359" y="7"/>
                  </a:lnTo>
                  <a:lnTo>
                    <a:pt x="1392" y="7"/>
                  </a:lnTo>
                  <a:lnTo>
                    <a:pt x="1392" y="317"/>
                  </a:lnTo>
                  <a:lnTo>
                    <a:pt x="1515" y="317"/>
                  </a:lnTo>
                  <a:lnTo>
                    <a:pt x="1515" y="348"/>
                  </a:lnTo>
                  <a:close/>
                  <a:moveTo>
                    <a:pt x="1594" y="160"/>
                  </a:moveTo>
                  <a:lnTo>
                    <a:pt x="1740" y="160"/>
                  </a:lnTo>
                  <a:lnTo>
                    <a:pt x="1740" y="195"/>
                  </a:lnTo>
                  <a:lnTo>
                    <a:pt x="1594" y="195"/>
                  </a:lnTo>
                  <a:lnTo>
                    <a:pt x="1594" y="317"/>
                  </a:lnTo>
                  <a:lnTo>
                    <a:pt x="1740" y="317"/>
                  </a:lnTo>
                  <a:lnTo>
                    <a:pt x="1740" y="348"/>
                  </a:lnTo>
                  <a:lnTo>
                    <a:pt x="1559" y="348"/>
                  </a:lnTo>
                  <a:lnTo>
                    <a:pt x="1559" y="7"/>
                  </a:lnTo>
                  <a:lnTo>
                    <a:pt x="1740" y="7"/>
                  </a:lnTo>
                  <a:lnTo>
                    <a:pt x="1740" y="40"/>
                  </a:lnTo>
                  <a:lnTo>
                    <a:pt x="1594" y="40"/>
                  </a:lnTo>
                  <a:lnTo>
                    <a:pt x="1594" y="160"/>
                  </a:lnTo>
                  <a:close/>
                  <a:moveTo>
                    <a:pt x="1879" y="348"/>
                  </a:moveTo>
                  <a:lnTo>
                    <a:pt x="1844" y="348"/>
                  </a:lnTo>
                  <a:lnTo>
                    <a:pt x="1844" y="40"/>
                  </a:lnTo>
                  <a:lnTo>
                    <a:pt x="1775" y="40"/>
                  </a:lnTo>
                  <a:lnTo>
                    <a:pt x="1775" y="7"/>
                  </a:lnTo>
                  <a:lnTo>
                    <a:pt x="1948" y="7"/>
                  </a:lnTo>
                  <a:lnTo>
                    <a:pt x="1948" y="40"/>
                  </a:lnTo>
                  <a:lnTo>
                    <a:pt x="1879" y="40"/>
                  </a:lnTo>
                  <a:lnTo>
                    <a:pt x="1879" y="348"/>
                  </a:lnTo>
                  <a:close/>
                  <a:moveTo>
                    <a:pt x="2018" y="160"/>
                  </a:moveTo>
                  <a:lnTo>
                    <a:pt x="2164" y="160"/>
                  </a:lnTo>
                  <a:lnTo>
                    <a:pt x="2164" y="195"/>
                  </a:lnTo>
                  <a:lnTo>
                    <a:pt x="2018" y="195"/>
                  </a:lnTo>
                  <a:lnTo>
                    <a:pt x="2018" y="317"/>
                  </a:lnTo>
                  <a:lnTo>
                    <a:pt x="2164" y="317"/>
                  </a:lnTo>
                  <a:lnTo>
                    <a:pt x="2164" y="348"/>
                  </a:lnTo>
                  <a:lnTo>
                    <a:pt x="1983" y="348"/>
                  </a:lnTo>
                  <a:lnTo>
                    <a:pt x="1983" y="7"/>
                  </a:lnTo>
                  <a:lnTo>
                    <a:pt x="2164" y="7"/>
                  </a:lnTo>
                  <a:lnTo>
                    <a:pt x="2164" y="40"/>
                  </a:lnTo>
                  <a:lnTo>
                    <a:pt x="2018" y="40"/>
                  </a:lnTo>
                  <a:lnTo>
                    <a:pt x="2018" y="160"/>
                  </a:lnTo>
                  <a:close/>
                  <a:moveTo>
                    <a:pt x="2257" y="40"/>
                  </a:moveTo>
                  <a:lnTo>
                    <a:pt x="2257" y="348"/>
                  </a:lnTo>
                  <a:lnTo>
                    <a:pt x="2223" y="348"/>
                  </a:lnTo>
                  <a:lnTo>
                    <a:pt x="2223" y="7"/>
                  </a:lnTo>
                  <a:lnTo>
                    <a:pt x="2317" y="7"/>
                  </a:lnTo>
                  <a:lnTo>
                    <a:pt x="2345" y="9"/>
                  </a:lnTo>
                  <a:lnTo>
                    <a:pt x="2366" y="12"/>
                  </a:lnTo>
                  <a:lnTo>
                    <a:pt x="2383" y="17"/>
                  </a:lnTo>
                  <a:lnTo>
                    <a:pt x="2399" y="26"/>
                  </a:lnTo>
                  <a:lnTo>
                    <a:pt x="2410" y="35"/>
                  </a:lnTo>
                  <a:lnTo>
                    <a:pt x="2419" y="44"/>
                  </a:lnTo>
                  <a:lnTo>
                    <a:pt x="2426" y="54"/>
                  </a:lnTo>
                  <a:lnTo>
                    <a:pt x="2433" y="65"/>
                  </a:lnTo>
                  <a:lnTo>
                    <a:pt x="2438" y="77"/>
                  </a:lnTo>
                  <a:lnTo>
                    <a:pt x="2441" y="90"/>
                  </a:lnTo>
                  <a:lnTo>
                    <a:pt x="2443" y="104"/>
                  </a:lnTo>
                  <a:lnTo>
                    <a:pt x="2445" y="116"/>
                  </a:lnTo>
                  <a:lnTo>
                    <a:pt x="2443" y="135"/>
                  </a:lnTo>
                  <a:lnTo>
                    <a:pt x="2440" y="153"/>
                  </a:lnTo>
                  <a:lnTo>
                    <a:pt x="2431" y="169"/>
                  </a:lnTo>
                  <a:lnTo>
                    <a:pt x="2420" y="185"/>
                  </a:lnTo>
                  <a:lnTo>
                    <a:pt x="2408" y="197"/>
                  </a:lnTo>
                  <a:lnTo>
                    <a:pt x="2394" y="206"/>
                  </a:lnTo>
                  <a:lnTo>
                    <a:pt x="2387" y="209"/>
                  </a:lnTo>
                  <a:lnTo>
                    <a:pt x="2378" y="213"/>
                  </a:lnTo>
                  <a:lnTo>
                    <a:pt x="2369" y="215"/>
                  </a:lnTo>
                  <a:lnTo>
                    <a:pt x="2361" y="216"/>
                  </a:lnTo>
                  <a:lnTo>
                    <a:pt x="2445" y="348"/>
                  </a:lnTo>
                  <a:lnTo>
                    <a:pt x="2405" y="348"/>
                  </a:lnTo>
                  <a:lnTo>
                    <a:pt x="2301" y="185"/>
                  </a:lnTo>
                  <a:lnTo>
                    <a:pt x="2334" y="185"/>
                  </a:lnTo>
                  <a:lnTo>
                    <a:pt x="2350" y="183"/>
                  </a:lnTo>
                  <a:lnTo>
                    <a:pt x="2364" y="179"/>
                  </a:lnTo>
                  <a:lnTo>
                    <a:pt x="2376" y="174"/>
                  </a:lnTo>
                  <a:lnTo>
                    <a:pt x="2387" y="165"/>
                  </a:lnTo>
                  <a:lnTo>
                    <a:pt x="2397" y="155"/>
                  </a:lnTo>
                  <a:lnTo>
                    <a:pt x="2403" y="144"/>
                  </a:lnTo>
                  <a:lnTo>
                    <a:pt x="2406" y="130"/>
                  </a:lnTo>
                  <a:lnTo>
                    <a:pt x="2408" y="116"/>
                  </a:lnTo>
                  <a:lnTo>
                    <a:pt x="2406" y="98"/>
                  </a:lnTo>
                  <a:lnTo>
                    <a:pt x="2401" y="84"/>
                  </a:lnTo>
                  <a:lnTo>
                    <a:pt x="2394" y="70"/>
                  </a:lnTo>
                  <a:lnTo>
                    <a:pt x="2383" y="58"/>
                  </a:lnTo>
                  <a:lnTo>
                    <a:pt x="2371" y="51"/>
                  </a:lnTo>
                  <a:lnTo>
                    <a:pt x="2359" y="46"/>
                  </a:lnTo>
                  <a:lnTo>
                    <a:pt x="2338" y="42"/>
                  </a:lnTo>
                  <a:lnTo>
                    <a:pt x="2308" y="40"/>
                  </a:lnTo>
                  <a:lnTo>
                    <a:pt x="2257" y="40"/>
                  </a:lnTo>
                  <a:close/>
                  <a:moveTo>
                    <a:pt x="2528" y="40"/>
                  </a:moveTo>
                  <a:lnTo>
                    <a:pt x="2528" y="348"/>
                  </a:lnTo>
                  <a:lnTo>
                    <a:pt x="2494" y="348"/>
                  </a:lnTo>
                  <a:lnTo>
                    <a:pt x="2494" y="7"/>
                  </a:lnTo>
                  <a:lnTo>
                    <a:pt x="2587" y="7"/>
                  </a:lnTo>
                  <a:lnTo>
                    <a:pt x="2615" y="9"/>
                  </a:lnTo>
                  <a:lnTo>
                    <a:pt x="2638" y="12"/>
                  </a:lnTo>
                  <a:lnTo>
                    <a:pt x="2656" y="17"/>
                  </a:lnTo>
                  <a:lnTo>
                    <a:pt x="2672" y="26"/>
                  </a:lnTo>
                  <a:lnTo>
                    <a:pt x="2680" y="35"/>
                  </a:lnTo>
                  <a:lnTo>
                    <a:pt x="2689" y="44"/>
                  </a:lnTo>
                  <a:lnTo>
                    <a:pt x="2698" y="54"/>
                  </a:lnTo>
                  <a:lnTo>
                    <a:pt x="2703" y="65"/>
                  </a:lnTo>
                  <a:lnTo>
                    <a:pt x="2709" y="77"/>
                  </a:lnTo>
                  <a:lnTo>
                    <a:pt x="2714" y="90"/>
                  </a:lnTo>
                  <a:lnTo>
                    <a:pt x="2716" y="104"/>
                  </a:lnTo>
                  <a:lnTo>
                    <a:pt x="2716" y="116"/>
                  </a:lnTo>
                  <a:lnTo>
                    <a:pt x="2714" y="135"/>
                  </a:lnTo>
                  <a:lnTo>
                    <a:pt x="2710" y="153"/>
                  </a:lnTo>
                  <a:lnTo>
                    <a:pt x="2703" y="169"/>
                  </a:lnTo>
                  <a:lnTo>
                    <a:pt x="2693" y="185"/>
                  </a:lnTo>
                  <a:lnTo>
                    <a:pt x="2679" y="197"/>
                  </a:lnTo>
                  <a:lnTo>
                    <a:pt x="2665" y="206"/>
                  </a:lnTo>
                  <a:lnTo>
                    <a:pt x="2658" y="209"/>
                  </a:lnTo>
                  <a:lnTo>
                    <a:pt x="2649" y="213"/>
                  </a:lnTo>
                  <a:lnTo>
                    <a:pt x="2642" y="215"/>
                  </a:lnTo>
                  <a:lnTo>
                    <a:pt x="2633" y="216"/>
                  </a:lnTo>
                  <a:lnTo>
                    <a:pt x="2716" y="348"/>
                  </a:lnTo>
                  <a:lnTo>
                    <a:pt x="2675" y="348"/>
                  </a:lnTo>
                  <a:lnTo>
                    <a:pt x="2573" y="185"/>
                  </a:lnTo>
                  <a:lnTo>
                    <a:pt x="2605" y="185"/>
                  </a:lnTo>
                  <a:lnTo>
                    <a:pt x="2621" y="183"/>
                  </a:lnTo>
                  <a:lnTo>
                    <a:pt x="2635" y="179"/>
                  </a:lnTo>
                  <a:lnTo>
                    <a:pt x="2649" y="174"/>
                  </a:lnTo>
                  <a:lnTo>
                    <a:pt x="2659" y="165"/>
                  </a:lnTo>
                  <a:lnTo>
                    <a:pt x="2668" y="155"/>
                  </a:lnTo>
                  <a:lnTo>
                    <a:pt x="2675" y="144"/>
                  </a:lnTo>
                  <a:lnTo>
                    <a:pt x="2679" y="130"/>
                  </a:lnTo>
                  <a:lnTo>
                    <a:pt x="2680" y="116"/>
                  </a:lnTo>
                  <a:lnTo>
                    <a:pt x="2679" y="98"/>
                  </a:lnTo>
                  <a:lnTo>
                    <a:pt x="2673" y="84"/>
                  </a:lnTo>
                  <a:lnTo>
                    <a:pt x="2665" y="70"/>
                  </a:lnTo>
                  <a:lnTo>
                    <a:pt x="2654" y="58"/>
                  </a:lnTo>
                  <a:lnTo>
                    <a:pt x="2644" y="51"/>
                  </a:lnTo>
                  <a:lnTo>
                    <a:pt x="2630" y="46"/>
                  </a:lnTo>
                  <a:lnTo>
                    <a:pt x="2610" y="42"/>
                  </a:lnTo>
                  <a:lnTo>
                    <a:pt x="2579" y="40"/>
                  </a:lnTo>
                  <a:lnTo>
                    <a:pt x="2528" y="40"/>
                  </a:lnTo>
                  <a:close/>
                  <a:moveTo>
                    <a:pt x="2805" y="160"/>
                  </a:moveTo>
                  <a:lnTo>
                    <a:pt x="2951" y="160"/>
                  </a:lnTo>
                  <a:lnTo>
                    <a:pt x="2951" y="195"/>
                  </a:lnTo>
                  <a:lnTo>
                    <a:pt x="2805" y="195"/>
                  </a:lnTo>
                  <a:lnTo>
                    <a:pt x="2805" y="317"/>
                  </a:lnTo>
                  <a:lnTo>
                    <a:pt x="2951" y="317"/>
                  </a:lnTo>
                  <a:lnTo>
                    <a:pt x="2951" y="348"/>
                  </a:lnTo>
                  <a:lnTo>
                    <a:pt x="2770" y="348"/>
                  </a:lnTo>
                  <a:lnTo>
                    <a:pt x="2770" y="7"/>
                  </a:lnTo>
                  <a:lnTo>
                    <a:pt x="2951" y="7"/>
                  </a:lnTo>
                  <a:lnTo>
                    <a:pt x="2951" y="40"/>
                  </a:lnTo>
                  <a:lnTo>
                    <a:pt x="2805" y="40"/>
                  </a:lnTo>
                  <a:lnTo>
                    <a:pt x="2805" y="160"/>
                  </a:lnTo>
                  <a:close/>
                  <a:moveTo>
                    <a:pt x="2997" y="251"/>
                  </a:moveTo>
                  <a:lnTo>
                    <a:pt x="3030" y="251"/>
                  </a:lnTo>
                  <a:lnTo>
                    <a:pt x="3032" y="266"/>
                  </a:lnTo>
                  <a:lnTo>
                    <a:pt x="3036" y="280"/>
                  </a:lnTo>
                  <a:lnTo>
                    <a:pt x="3041" y="292"/>
                  </a:lnTo>
                  <a:lnTo>
                    <a:pt x="3050" y="301"/>
                  </a:lnTo>
                  <a:lnTo>
                    <a:pt x="3058" y="310"/>
                  </a:lnTo>
                  <a:lnTo>
                    <a:pt x="3069" y="317"/>
                  </a:lnTo>
                  <a:lnTo>
                    <a:pt x="3081" y="320"/>
                  </a:lnTo>
                  <a:lnTo>
                    <a:pt x="3094" y="320"/>
                  </a:lnTo>
                  <a:lnTo>
                    <a:pt x="3108" y="320"/>
                  </a:lnTo>
                  <a:lnTo>
                    <a:pt x="3122" y="317"/>
                  </a:lnTo>
                  <a:lnTo>
                    <a:pt x="3132" y="310"/>
                  </a:lnTo>
                  <a:lnTo>
                    <a:pt x="3143" y="303"/>
                  </a:lnTo>
                  <a:lnTo>
                    <a:pt x="3150" y="292"/>
                  </a:lnTo>
                  <a:lnTo>
                    <a:pt x="3155" y="280"/>
                  </a:lnTo>
                  <a:lnTo>
                    <a:pt x="3159" y="267"/>
                  </a:lnTo>
                  <a:lnTo>
                    <a:pt x="3160" y="251"/>
                  </a:lnTo>
                  <a:lnTo>
                    <a:pt x="3159" y="241"/>
                  </a:lnTo>
                  <a:lnTo>
                    <a:pt x="3155" y="230"/>
                  </a:lnTo>
                  <a:lnTo>
                    <a:pt x="3150" y="220"/>
                  </a:lnTo>
                  <a:lnTo>
                    <a:pt x="3141" y="211"/>
                  </a:lnTo>
                  <a:lnTo>
                    <a:pt x="3132" y="202"/>
                  </a:lnTo>
                  <a:lnTo>
                    <a:pt x="3118" y="195"/>
                  </a:lnTo>
                  <a:lnTo>
                    <a:pt x="3104" y="188"/>
                  </a:lnTo>
                  <a:lnTo>
                    <a:pt x="3086" y="181"/>
                  </a:lnTo>
                  <a:lnTo>
                    <a:pt x="3081" y="179"/>
                  </a:lnTo>
                  <a:lnTo>
                    <a:pt x="3078" y="179"/>
                  </a:lnTo>
                  <a:lnTo>
                    <a:pt x="3060" y="172"/>
                  </a:lnTo>
                  <a:lnTo>
                    <a:pt x="3046" y="163"/>
                  </a:lnTo>
                  <a:lnTo>
                    <a:pt x="3034" y="155"/>
                  </a:lnTo>
                  <a:lnTo>
                    <a:pt x="3023" y="146"/>
                  </a:lnTo>
                  <a:lnTo>
                    <a:pt x="3016" y="135"/>
                  </a:lnTo>
                  <a:lnTo>
                    <a:pt x="3011" y="123"/>
                  </a:lnTo>
                  <a:lnTo>
                    <a:pt x="3007" y="109"/>
                  </a:lnTo>
                  <a:lnTo>
                    <a:pt x="3007" y="95"/>
                  </a:lnTo>
                  <a:lnTo>
                    <a:pt x="3009" y="74"/>
                  </a:lnTo>
                  <a:lnTo>
                    <a:pt x="3013" y="56"/>
                  </a:lnTo>
                  <a:lnTo>
                    <a:pt x="3016" y="49"/>
                  </a:lnTo>
                  <a:lnTo>
                    <a:pt x="3021" y="40"/>
                  </a:lnTo>
                  <a:lnTo>
                    <a:pt x="3027" y="33"/>
                  </a:lnTo>
                  <a:lnTo>
                    <a:pt x="3032" y="26"/>
                  </a:lnTo>
                  <a:lnTo>
                    <a:pt x="3039" y="21"/>
                  </a:lnTo>
                  <a:lnTo>
                    <a:pt x="3046" y="16"/>
                  </a:lnTo>
                  <a:lnTo>
                    <a:pt x="3055" y="10"/>
                  </a:lnTo>
                  <a:lnTo>
                    <a:pt x="3062" y="7"/>
                  </a:lnTo>
                  <a:lnTo>
                    <a:pt x="3079" y="3"/>
                  </a:lnTo>
                  <a:lnTo>
                    <a:pt x="3099" y="1"/>
                  </a:lnTo>
                  <a:lnTo>
                    <a:pt x="3118" y="3"/>
                  </a:lnTo>
                  <a:lnTo>
                    <a:pt x="3134" y="7"/>
                  </a:lnTo>
                  <a:lnTo>
                    <a:pt x="3143" y="10"/>
                  </a:lnTo>
                  <a:lnTo>
                    <a:pt x="3150" y="14"/>
                  </a:lnTo>
                  <a:lnTo>
                    <a:pt x="3155" y="19"/>
                  </a:lnTo>
                  <a:lnTo>
                    <a:pt x="3162" y="24"/>
                  </a:lnTo>
                  <a:lnTo>
                    <a:pt x="3171" y="38"/>
                  </a:lnTo>
                  <a:lnTo>
                    <a:pt x="3180" y="53"/>
                  </a:lnTo>
                  <a:lnTo>
                    <a:pt x="3185" y="72"/>
                  </a:lnTo>
                  <a:lnTo>
                    <a:pt x="3187" y="91"/>
                  </a:lnTo>
                  <a:lnTo>
                    <a:pt x="3155" y="91"/>
                  </a:lnTo>
                  <a:lnTo>
                    <a:pt x="3153" y="79"/>
                  </a:lnTo>
                  <a:lnTo>
                    <a:pt x="3150" y="67"/>
                  </a:lnTo>
                  <a:lnTo>
                    <a:pt x="3144" y="56"/>
                  </a:lnTo>
                  <a:lnTo>
                    <a:pt x="3137" y="47"/>
                  </a:lnTo>
                  <a:lnTo>
                    <a:pt x="3130" y="42"/>
                  </a:lnTo>
                  <a:lnTo>
                    <a:pt x="3122" y="37"/>
                  </a:lnTo>
                  <a:lnTo>
                    <a:pt x="3111" y="35"/>
                  </a:lnTo>
                  <a:lnTo>
                    <a:pt x="3099" y="33"/>
                  </a:lnTo>
                  <a:lnTo>
                    <a:pt x="3086" y="35"/>
                  </a:lnTo>
                  <a:lnTo>
                    <a:pt x="3076" y="37"/>
                  </a:lnTo>
                  <a:lnTo>
                    <a:pt x="3065" y="42"/>
                  </a:lnTo>
                  <a:lnTo>
                    <a:pt x="3057" y="49"/>
                  </a:lnTo>
                  <a:lnTo>
                    <a:pt x="3050" y="58"/>
                  </a:lnTo>
                  <a:lnTo>
                    <a:pt x="3044" y="68"/>
                  </a:lnTo>
                  <a:lnTo>
                    <a:pt x="3043" y="79"/>
                  </a:lnTo>
                  <a:lnTo>
                    <a:pt x="3041" y="91"/>
                  </a:lnTo>
                  <a:lnTo>
                    <a:pt x="3043" y="104"/>
                  </a:lnTo>
                  <a:lnTo>
                    <a:pt x="3046" y="114"/>
                  </a:lnTo>
                  <a:lnTo>
                    <a:pt x="3053" y="125"/>
                  </a:lnTo>
                  <a:lnTo>
                    <a:pt x="3062" y="132"/>
                  </a:lnTo>
                  <a:lnTo>
                    <a:pt x="3078" y="141"/>
                  </a:lnTo>
                  <a:lnTo>
                    <a:pt x="3104" y="151"/>
                  </a:lnTo>
                  <a:lnTo>
                    <a:pt x="3120" y="155"/>
                  </a:lnTo>
                  <a:lnTo>
                    <a:pt x="3130" y="160"/>
                  </a:lnTo>
                  <a:lnTo>
                    <a:pt x="3146" y="167"/>
                  </a:lnTo>
                  <a:lnTo>
                    <a:pt x="3160" y="174"/>
                  </a:lnTo>
                  <a:lnTo>
                    <a:pt x="3171" y="183"/>
                  </a:lnTo>
                  <a:lnTo>
                    <a:pt x="3180" y="193"/>
                  </a:lnTo>
                  <a:lnTo>
                    <a:pt x="3185" y="204"/>
                  </a:lnTo>
                  <a:lnTo>
                    <a:pt x="3190" y="216"/>
                  </a:lnTo>
                  <a:lnTo>
                    <a:pt x="3194" y="230"/>
                  </a:lnTo>
                  <a:lnTo>
                    <a:pt x="3194" y="244"/>
                  </a:lnTo>
                  <a:lnTo>
                    <a:pt x="3194" y="257"/>
                  </a:lnTo>
                  <a:lnTo>
                    <a:pt x="3192" y="269"/>
                  </a:lnTo>
                  <a:lnTo>
                    <a:pt x="3190" y="280"/>
                  </a:lnTo>
                  <a:lnTo>
                    <a:pt x="3187" y="290"/>
                  </a:lnTo>
                  <a:lnTo>
                    <a:pt x="3183" y="301"/>
                  </a:lnTo>
                  <a:lnTo>
                    <a:pt x="3180" y="310"/>
                  </a:lnTo>
                  <a:lnTo>
                    <a:pt x="3173" y="317"/>
                  </a:lnTo>
                  <a:lnTo>
                    <a:pt x="3167" y="325"/>
                  </a:lnTo>
                  <a:lnTo>
                    <a:pt x="3160" y="332"/>
                  </a:lnTo>
                  <a:lnTo>
                    <a:pt x="3152" y="338"/>
                  </a:lnTo>
                  <a:lnTo>
                    <a:pt x="3144" y="343"/>
                  </a:lnTo>
                  <a:lnTo>
                    <a:pt x="3134" y="348"/>
                  </a:lnTo>
                  <a:lnTo>
                    <a:pt x="3125" y="352"/>
                  </a:lnTo>
                  <a:lnTo>
                    <a:pt x="3115" y="354"/>
                  </a:lnTo>
                  <a:lnTo>
                    <a:pt x="3104" y="355"/>
                  </a:lnTo>
                  <a:lnTo>
                    <a:pt x="3094" y="355"/>
                  </a:lnTo>
                  <a:lnTo>
                    <a:pt x="3083" y="355"/>
                  </a:lnTo>
                  <a:lnTo>
                    <a:pt x="3074" y="354"/>
                  </a:lnTo>
                  <a:lnTo>
                    <a:pt x="3064" y="352"/>
                  </a:lnTo>
                  <a:lnTo>
                    <a:pt x="3055" y="348"/>
                  </a:lnTo>
                  <a:lnTo>
                    <a:pt x="3046" y="345"/>
                  </a:lnTo>
                  <a:lnTo>
                    <a:pt x="3039" y="339"/>
                  </a:lnTo>
                  <a:lnTo>
                    <a:pt x="3032" y="334"/>
                  </a:lnTo>
                  <a:lnTo>
                    <a:pt x="3025" y="327"/>
                  </a:lnTo>
                  <a:lnTo>
                    <a:pt x="3018" y="320"/>
                  </a:lnTo>
                  <a:lnTo>
                    <a:pt x="3013" y="311"/>
                  </a:lnTo>
                  <a:lnTo>
                    <a:pt x="3009" y="303"/>
                  </a:lnTo>
                  <a:lnTo>
                    <a:pt x="3006" y="294"/>
                  </a:lnTo>
                  <a:lnTo>
                    <a:pt x="3000" y="274"/>
                  </a:lnTo>
                  <a:lnTo>
                    <a:pt x="2997" y="251"/>
                  </a:lnTo>
                  <a:close/>
                  <a:moveTo>
                    <a:pt x="3317" y="348"/>
                  </a:moveTo>
                  <a:lnTo>
                    <a:pt x="3283" y="348"/>
                  </a:lnTo>
                  <a:lnTo>
                    <a:pt x="3283" y="40"/>
                  </a:lnTo>
                  <a:lnTo>
                    <a:pt x="3213" y="40"/>
                  </a:lnTo>
                  <a:lnTo>
                    <a:pt x="3213" y="7"/>
                  </a:lnTo>
                  <a:lnTo>
                    <a:pt x="3387" y="7"/>
                  </a:lnTo>
                  <a:lnTo>
                    <a:pt x="3387" y="40"/>
                  </a:lnTo>
                  <a:lnTo>
                    <a:pt x="3317" y="40"/>
                  </a:lnTo>
                  <a:lnTo>
                    <a:pt x="3317" y="348"/>
                  </a:lnTo>
                  <a:close/>
                  <a:moveTo>
                    <a:pt x="3450" y="40"/>
                  </a:moveTo>
                  <a:lnTo>
                    <a:pt x="3450" y="348"/>
                  </a:lnTo>
                  <a:lnTo>
                    <a:pt x="3417" y="348"/>
                  </a:lnTo>
                  <a:lnTo>
                    <a:pt x="3417" y="7"/>
                  </a:lnTo>
                  <a:lnTo>
                    <a:pt x="3510" y="7"/>
                  </a:lnTo>
                  <a:lnTo>
                    <a:pt x="3538" y="9"/>
                  </a:lnTo>
                  <a:lnTo>
                    <a:pt x="3559" y="12"/>
                  </a:lnTo>
                  <a:lnTo>
                    <a:pt x="3577" y="17"/>
                  </a:lnTo>
                  <a:lnTo>
                    <a:pt x="3593" y="26"/>
                  </a:lnTo>
                  <a:lnTo>
                    <a:pt x="3603" y="35"/>
                  </a:lnTo>
                  <a:lnTo>
                    <a:pt x="3612" y="44"/>
                  </a:lnTo>
                  <a:lnTo>
                    <a:pt x="3619" y="54"/>
                  </a:lnTo>
                  <a:lnTo>
                    <a:pt x="3626" y="65"/>
                  </a:lnTo>
                  <a:lnTo>
                    <a:pt x="3631" y="77"/>
                  </a:lnTo>
                  <a:lnTo>
                    <a:pt x="3635" y="90"/>
                  </a:lnTo>
                  <a:lnTo>
                    <a:pt x="3637" y="104"/>
                  </a:lnTo>
                  <a:lnTo>
                    <a:pt x="3638" y="116"/>
                  </a:lnTo>
                  <a:lnTo>
                    <a:pt x="3637" y="135"/>
                  </a:lnTo>
                  <a:lnTo>
                    <a:pt x="3631" y="153"/>
                  </a:lnTo>
                  <a:lnTo>
                    <a:pt x="3624" y="169"/>
                  </a:lnTo>
                  <a:lnTo>
                    <a:pt x="3614" y="185"/>
                  </a:lnTo>
                  <a:lnTo>
                    <a:pt x="3601" y="197"/>
                  </a:lnTo>
                  <a:lnTo>
                    <a:pt x="3587" y="206"/>
                  </a:lnTo>
                  <a:lnTo>
                    <a:pt x="3580" y="209"/>
                  </a:lnTo>
                  <a:lnTo>
                    <a:pt x="3572" y="213"/>
                  </a:lnTo>
                  <a:lnTo>
                    <a:pt x="3563" y="215"/>
                  </a:lnTo>
                  <a:lnTo>
                    <a:pt x="3554" y="216"/>
                  </a:lnTo>
                  <a:lnTo>
                    <a:pt x="3638" y="348"/>
                  </a:lnTo>
                  <a:lnTo>
                    <a:pt x="3598" y="348"/>
                  </a:lnTo>
                  <a:lnTo>
                    <a:pt x="3494" y="185"/>
                  </a:lnTo>
                  <a:lnTo>
                    <a:pt x="3528" y="185"/>
                  </a:lnTo>
                  <a:lnTo>
                    <a:pt x="3543" y="183"/>
                  </a:lnTo>
                  <a:lnTo>
                    <a:pt x="3558" y="179"/>
                  </a:lnTo>
                  <a:lnTo>
                    <a:pt x="3570" y="174"/>
                  </a:lnTo>
                  <a:lnTo>
                    <a:pt x="3580" y="165"/>
                  </a:lnTo>
                  <a:lnTo>
                    <a:pt x="3591" y="155"/>
                  </a:lnTo>
                  <a:lnTo>
                    <a:pt x="3596" y="144"/>
                  </a:lnTo>
                  <a:lnTo>
                    <a:pt x="3600" y="130"/>
                  </a:lnTo>
                  <a:lnTo>
                    <a:pt x="3601" y="116"/>
                  </a:lnTo>
                  <a:lnTo>
                    <a:pt x="3600" y="98"/>
                  </a:lnTo>
                  <a:lnTo>
                    <a:pt x="3596" y="84"/>
                  </a:lnTo>
                  <a:lnTo>
                    <a:pt x="3587" y="70"/>
                  </a:lnTo>
                  <a:lnTo>
                    <a:pt x="3577" y="58"/>
                  </a:lnTo>
                  <a:lnTo>
                    <a:pt x="3565" y="51"/>
                  </a:lnTo>
                  <a:lnTo>
                    <a:pt x="3552" y="46"/>
                  </a:lnTo>
                  <a:lnTo>
                    <a:pt x="3531" y="42"/>
                  </a:lnTo>
                  <a:lnTo>
                    <a:pt x="3501" y="40"/>
                  </a:lnTo>
                  <a:lnTo>
                    <a:pt x="3450" y="40"/>
                  </a:lnTo>
                  <a:close/>
                  <a:moveTo>
                    <a:pt x="3728" y="160"/>
                  </a:moveTo>
                  <a:lnTo>
                    <a:pt x="3874" y="160"/>
                  </a:lnTo>
                  <a:lnTo>
                    <a:pt x="3874" y="195"/>
                  </a:lnTo>
                  <a:lnTo>
                    <a:pt x="3728" y="195"/>
                  </a:lnTo>
                  <a:lnTo>
                    <a:pt x="3728" y="317"/>
                  </a:lnTo>
                  <a:lnTo>
                    <a:pt x="3874" y="317"/>
                  </a:lnTo>
                  <a:lnTo>
                    <a:pt x="3874" y="348"/>
                  </a:lnTo>
                  <a:lnTo>
                    <a:pt x="3693" y="348"/>
                  </a:lnTo>
                  <a:lnTo>
                    <a:pt x="3693" y="7"/>
                  </a:lnTo>
                  <a:lnTo>
                    <a:pt x="3874" y="7"/>
                  </a:lnTo>
                  <a:lnTo>
                    <a:pt x="3874" y="40"/>
                  </a:lnTo>
                  <a:lnTo>
                    <a:pt x="3728" y="40"/>
                  </a:lnTo>
                  <a:lnTo>
                    <a:pt x="3728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59280" y="2852640"/>
            <a:ext cx="3457800" cy="2490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9900"/>
            </a:outerShdw>
          </a:effectLst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895840" cy="2171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9900"/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716360" y="692280"/>
            <a:ext cx="2833920" cy="189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9900"/>
            </a:outerShdw>
          </a:effectLst>
        </p:spPr>
      </p:pic>
      <p:sp>
        <p:nvSpPr>
          <p:cNvPr id="146" name=""/>
          <p:cNvSpPr/>
          <p:nvPr/>
        </p:nvSpPr>
        <p:spPr>
          <a:xfrm>
            <a:off x="7524720" y="1628640"/>
            <a:ext cx="1619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530064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4720" y="0"/>
            <a:ext cx="0" cy="620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820000" y="2924280"/>
            <a:ext cx="32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852640"/>
            <a:ext cx="4032360" cy="2376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Ogni tecnico lavora in azi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composte da un numer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addetti che va dai 2 ai 10 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dipendenti e soci, questo signif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che il numero di installa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coinvolti è di circa </a:t>
            </a:r>
            <a:r>
              <a:rPr b="1" lang="en-US" sz="2000" spc="-1" strike="noStrike" u="sng">
                <a:solidFill>
                  <a:srgbClr val="ffe05b"/>
                </a:solidFill>
                <a:uFillTx/>
                <a:latin typeface="Arial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fcfe"/>
                </a:solidFill>
                <a:latin typeface="Arial"/>
              </a:rPr>
              <a:t>su un totale di 4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15920"/>
            <a:ext cx="5041800" cy="936720"/>
          </a:xfrm>
          <a:prstGeom prst="roundRect">
            <a:avLst>
              <a:gd name="adj" fmla="val 16667"/>
            </a:avLst>
          </a:prstGeom>
          <a:solidFill>
            <a:srgbClr val="dafcf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I nuovi profili professionali creati dalla D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oinvolti nei nostri corsi (c.5000 aziend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 incontri formativi (c.12000 tecnici per an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115920"/>
            <a:ext cx="1238040" cy="1238040"/>
          </a:xfrm>
          <a:prstGeom prst="ellipse">
            <a:avLst/>
          </a:prstGeom>
          <a:solidFill>
            <a:srgbClr val="d7b1fd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icezion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1484280"/>
            <a:ext cx="1224000" cy="1238400"/>
          </a:xfrm>
          <a:prstGeom prst="ellipse">
            <a:avLst/>
          </a:prstGeom>
          <a:solidFill>
            <a:srgbClr val="d7b1fd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Trasmi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2852640"/>
            <a:ext cx="1238040" cy="1238400"/>
          </a:xfrm>
          <a:prstGeom prst="ellipse">
            <a:avLst/>
          </a:prstGeom>
          <a:solidFill>
            <a:srgbClr val="d7b1fd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Web s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4221000"/>
            <a:ext cx="1238040" cy="1238400"/>
          </a:xfrm>
          <a:prstGeom prst="ellipse">
            <a:avLst/>
          </a:prstGeom>
          <a:solidFill>
            <a:srgbClr val="d7b1fd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ntenu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125360"/>
            <a:ext cx="985680" cy="98604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telef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fi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05000"/>
            <a:ext cx="985680" cy="98604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telef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3284640"/>
            <a:ext cx="985680" cy="9856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cabl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struttu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4365720"/>
            <a:ext cx="985680" cy="9856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bffe5"/>
                </a:solidFill>
                <a:latin typeface="Arial"/>
              </a:rPr>
              <a:t>domo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2492280"/>
            <a:ext cx="1814400" cy="181476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c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DIGI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TERR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84360" y="3357720"/>
            <a:ext cx="719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84360" y="1557000"/>
            <a:ext cx="0" cy="180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3357720"/>
            <a:ext cx="0" cy="151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123640" y="155736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263700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378936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123640" y="486900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692280"/>
            <a:ext cx="0" cy="4249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3357720"/>
            <a:ext cx="576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69228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580000" y="213372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35772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0000" y="494172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1125360"/>
            <a:ext cx="2521080" cy="914400"/>
          </a:xfrm>
          <a:prstGeom prst="roundRect">
            <a:avLst>
              <a:gd name="adj" fmla="val 16667"/>
            </a:avLst>
          </a:prstGeom>
          <a:solidFill>
            <a:srgbClr val="f9fec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Giro d’affari stimato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6 mld di Euro in 3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96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268280"/>
            <a:ext cx="3816360" cy="40100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10040"/>
              <a:gd name="textAreaBottom" fmla="*/ 3823920 h 4010040"/>
            </a:gdLst>
            <a:ahLst/>
            <a:rect l="textAreaLeft" t="textAreaTop" r="textAreaRight" b="textAreaBottom"/>
            <a:pathLst>
              <a:path w="21600" h="22696">
                <a:moveTo>
                  <a:pt x="3600" y="0"/>
                </a:moveTo>
                <a:arcTo wR="3600" hR="3600" stAng="16200000" swAng="-5400000"/>
                <a:lnTo>
                  <a:pt x="0" y="19096"/>
                </a:lnTo>
                <a:arcTo wR="3600" hR="3600" stAng="10800000" swAng="-5400000"/>
                <a:lnTo>
                  <a:pt x="18000" y="2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655a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1"/>
                </a:solidFill>
                <a:latin typeface="Arial"/>
              </a:rPr>
              <a:t>Con il nostro sito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c1"/>
                </a:solidFill>
                <a:uFillTx/>
                <a:latin typeface="Arial"/>
              </a:rPr>
              <a:t>www.digitaleterrestre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1"/>
                </a:solidFill>
                <a:latin typeface="Arial"/>
              </a:rPr>
              <a:t>nel mese di genn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c1"/>
                </a:solidFill>
                <a:latin typeface="Arial"/>
              </a:rPr>
              <a:t>abbiamo raggiu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1"/>
                </a:solidFill>
                <a:latin typeface="Arial"/>
              </a:rPr>
              <a:t>2.300.000 cont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765000"/>
            <a:ext cx="3816360" cy="40100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10040"/>
              <a:gd name="textAreaBottom" fmla="*/ 3823920 h 4010040"/>
            </a:gdLst>
            <a:ahLst/>
            <a:rect l="textAreaLeft" t="textAreaTop" r="textAreaRight" b="textAreaBottom"/>
            <a:pathLst>
              <a:path w="21600" h="22696">
                <a:moveTo>
                  <a:pt x="3600" y="0"/>
                </a:moveTo>
                <a:arcTo wR="3600" hR="3600" stAng="16200000" swAng="-5400000"/>
                <a:lnTo>
                  <a:pt x="0" y="19096"/>
                </a:lnTo>
                <a:arcTo wR="3600" hR="3600" stAng="10800000" swAng="-5400000"/>
                <a:lnTo>
                  <a:pt x="18000" y="2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f8ba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traverso le no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wsletter settiman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ngono inform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ltre 10.000 addetti ai lavor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rossisti ed Install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16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780000" y="5661000"/>
            <a:ext cx="33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40360" y="0"/>
            <a:ext cx="0" cy="551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5445000"/>
            <a:ext cx="2376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404640"/>
            <a:ext cx="5689800" cy="3384720"/>
          </a:xfrm>
          <a:prstGeom prst="roundRect">
            <a:avLst>
              <a:gd name="adj" fmla="val 16667"/>
            </a:avLst>
          </a:prstGeom>
          <a:solidFill>
            <a:srgbClr val="f4e784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UROSATELL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è a disposizione degli Enti che necessitan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getti di formazione dedic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i dipendenti degli Enti Pubbl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sulenza sulle tecnologie di comun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i di tecnici e install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ti sul territorio na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5805360"/>
            <a:ext cx="278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5805360"/>
            <a:ext cx="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5950080"/>
            <a:ext cx="165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0" y="6021360"/>
            <a:ext cx="18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780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5950080"/>
            <a:ext cx="2050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80000" y="5661000"/>
            <a:ext cx="3456000" cy="595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35640" y="580536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4560" y="5950080"/>
            <a:ext cx="16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mm. Alberto Borchielli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9080" y="5445000"/>
            <a:ext cx="23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entro di Formazione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3860640"/>
            <a:ext cx="4608720" cy="113040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razie per l’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140360" y="6237360"/>
            <a:ext cx="4335480" cy="393480"/>
            <a:chOff x="4140360" y="6237360"/>
            <a:chExt cx="4335480" cy="39348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6012000" y="6237360"/>
              <a:ext cx="2463840" cy="393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36" name=""/>
            <p:cNvSpPr/>
            <p:nvPr/>
          </p:nvSpPr>
          <p:spPr>
            <a:xfrm>
              <a:off x="4140360" y="6237360"/>
              <a:ext cx="0" cy="2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0360" y="645336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8:37:50Z</dcterms:created>
  <dc:creator>pippo</dc:creator>
  <dc:description/>
  <dc:language>en-US</dc:language>
  <cp:lastModifiedBy>AB</cp:lastModifiedBy>
  <dcterms:modified xsi:type="dcterms:W3CDTF">2005-06-10T06:09:29Z</dcterms:modified>
  <cp:revision>45</cp:revision>
  <dc:subject/>
  <dc:title>Diapositiva 1</dc:title>
</cp:coreProperties>
</file>